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1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1.png" ContentType="image/png"/>
  <Override PartName="/ppt/media/image24.png" ContentType="image/png"/>
  <Override PartName="/ppt/media/image13.png" ContentType="image/png"/>
  <Override PartName="/ppt/media/image14.gif" ContentType="image/gif"/>
  <Override PartName="/ppt/media/image15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chimes.wav" ContentType="audio/x-wav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917-8E35-4A97-BC21-E6F0F1BD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D20-6690-49CA-97C9-8842213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5D6-A0F0-43C2-9090-A3F0B3AC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050-7E0F-41BD-9C02-A3261442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A055-BD7E-4F16-BE85-9CD2288C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FD22-682D-45E2-9F8F-D525EE4C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7217-70CC-446F-BBBD-93E9F201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0B29-7653-4658-9AF7-516A609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1A39-BA8F-40C5-915F-49E02C9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41B6-D49E-4B6C-A587-B94917A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777F-2776-4B72-BDAE-9710585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EF0-3420-4AD2-B94A-B97F5922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CC04-01CD-474D-9D8A-910DE60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A09F-F4D5-4687-8489-B012D79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1BFF-474B-458B-90EE-774DC68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AC8A-8E80-43B2-92F9-2E0DD73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C06D-5F43-412E-BAF9-FCB131CE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3800-B32E-442E-894B-B925EDF5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B7AA-5B4D-4482-8CEF-B73DA292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A57FB-2869-412C-8CFD-686685BD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201CF-4779-46A1-BA1A-09514357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ED40-6F49-4BDB-8BAC-FAF7A0F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AB8-4E68-4B76-9835-F911CD74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A49B4-DABC-4C4D-BFA2-34E5A53F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AF98-C771-466A-8D4A-C7F5A4C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BADD-2F29-4C9B-84A0-F956C44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04F6-965C-410A-AB12-9A90FD7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4931-3E0E-43F1-8E8F-E189091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526F-21C7-4C7E-A94C-AB346133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F26C-5C16-4CDE-B268-119551B7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EDDC7-18E7-41C8-81FE-C154BDD5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7E1B-5CA8-43AE-93F3-A53378F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E694-C576-46E1-B32D-837167B0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CC7-7FCB-463B-A7CD-B506F604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C847B-AA73-4A49-836C-29E05E43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5F4D-791C-45D5-A737-AB637D9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FD03-E571-4669-9227-62E70923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19C8-999C-4114-8531-28603A4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BEBB-9A3A-4E56-80CC-F59733B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3B4D9-554F-469A-819F-62F6373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CBAE-8DA1-4E2C-84A1-91BA370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51A7-A8CD-4A80-A2AA-DF765313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76D4-A878-4800-8175-F89B0C35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B60C4-92DB-4F34-B1F5-B0787684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E3F-8A1C-4B7E-8766-828AB611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E7C8-0C22-4478-8641-5187B413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25A25-0C32-4101-845E-FA407A94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BD102-76A1-4AA1-8D2B-3EA65238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14113-DE37-4D57-B46F-EEA7126C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43680-A240-440B-AC3B-9AF82ACC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BC4E-C21B-4402-88DD-A18DA22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1D82F-D1F4-4227-A4CD-B11F06E8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16B2-17E0-4751-96B9-AE59FED1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01F8-72BC-4B50-8E20-0309AA1B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89CE-A957-4839-A556-6A4FDF6C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9AC-517B-48FA-9675-AC9AF58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6BF1-916C-43B2-A8F5-16732B55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D4F-E3C8-4A4F-9CE0-C95B19D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45F-51DA-4B75-BD3F-461F8C4F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E10-9572-481E-93A7-BF2FFFCB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22A6-10BC-421C-A038-DB58B3B0BA29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88DD-D515-46E3-8186-CDF935617317}" type="slidenum">
              <a:rPr b="0" lang="es-E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8F36-12FE-401E-8BAC-8E4A4FA6E392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6CC0-CC8E-469A-A319-C0C4DACE3129}" type="slidenum">
              <a:rPr b="0" lang="es-E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9714-4C74-43F4-957F-207182230663}" type="slidenum">
              <a:rPr b="0" lang="es-E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1 Título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150400" cy="1481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listadecuriosidades.com/wp-content/uploads/2011/09/enfermedades-mentales.jpg"/>
          <p:cNvPicPr/>
          <p:nvPr/>
        </p:nvPicPr>
        <p:blipFill>
          <a:blip r:embed="rId2"/>
          <a:stretch/>
        </p:blipFill>
        <p:spPr>
          <a:xfrm>
            <a:off x="3071880" y="2214720"/>
            <a:ext cx="3571920" cy="3600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214200" y="785880"/>
            <a:ext cx="2357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Bulim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Síndrome de déficit de atención e hiperactiv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Trastornos de la personalid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852f74"/>
                </a:solidFill>
                <a:latin typeface="Trebuchet MS"/>
              </a:rPr>
              <a:t>*Demenc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8ebfb"/>
              </a:gs>
              <a:gs pos="100000">
                <a:srgbClr val="e6c6ef"/>
              </a:gs>
            </a:gsLst>
            <a:lin ang="5400000"/>
          </a:gradFill>
          <a:ln w="11520">
            <a:solidFill>
              <a:srgbClr val="ac66bb"/>
            </a:solidFill>
            <a:miter/>
          </a:ln>
          <a:effectLst>
            <a:outerShdw dist="24840" dir="5400000" blurRad="0" rotWithShape="0">
              <a:srgbClr val="6b2b79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l principio, las personas con estos trastornos usualmente no buscan tratamiento por su cuenta. Ellas tienden a buscar ayuda una vez que su comportamiento ha causado problemas graves en sus relaciones personales o en sus trabajos o cuando les diagnostican otro problema psiquiátrico, como un trastorno del estado anímico o drogadic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unque lleva tiempo tratar los trastornos de personalidad, hay indicios crecientes de que ciertas formas de psicoterapia pueden ayudar a muchas personas. En algunos casos, los medicamentos pueden ser un complemento útil para la terapi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4 Imagen" descr="psiquia_fig.jpg"/>
          <p:cNvPicPr/>
          <p:nvPr/>
        </p:nvPicPr>
        <p:blipFill>
          <a:blip r:embed="rId2"/>
          <a:stretch/>
        </p:blipFill>
        <p:spPr>
          <a:xfrm>
            <a:off x="7143840" y="0"/>
            <a:ext cx="1795320" cy="2265480"/>
          </a:xfrm>
          <a:prstGeom prst="rect">
            <a:avLst/>
          </a:prstGeom>
          <a:ln w="0">
            <a:noFill/>
          </a:ln>
        </p:spPr>
      </p:pic>
      <p:sp>
        <p:nvSpPr>
          <p:cNvPr id="250" name="5 CuadroTexto"/>
          <p:cNvSpPr/>
          <p:nvPr/>
        </p:nvSpPr>
        <p:spPr>
          <a:xfrm>
            <a:off x="5500800" y="571680"/>
            <a:ext cx="1500120" cy="642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grito de Munch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1 Título" descr=""/>
          <p:cNvPicPr/>
          <p:nvPr/>
        </p:nvPicPr>
        <p:blipFill>
          <a:blip r:embed="rId1"/>
          <a:stretch/>
        </p:blipFill>
        <p:spPr>
          <a:xfrm>
            <a:off x="4552920" y="-6480"/>
            <a:ext cx="4084560" cy="11401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571720" y="1356840"/>
            <a:ext cx="3143160" cy="4071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s una pérdida de la función cerebral que ocurre con ciertas enfermedades y afecta la memoria, el pensamiento, el lenguaje, el juicio y el comportamient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3" name="7 Imagen" descr="demenciasenil.gif"/>
          <p:cNvPicPr/>
          <p:nvPr/>
        </p:nvPicPr>
        <p:blipFill>
          <a:blip r:embed="rId2"/>
          <a:stretch/>
        </p:blipFill>
        <p:spPr>
          <a:xfrm rot="21348000">
            <a:off x="123480" y="1329840"/>
            <a:ext cx="5267160" cy="356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Admin\Configuración local\Archivos temporales de Internet\Content.IE5\2OBVRK0W\MP900402619[1].jpg"/>
          <p:cNvPicPr/>
          <p:nvPr/>
        </p:nvPicPr>
        <p:blipFill>
          <a:blip r:embed="rId3"/>
          <a:stretch/>
        </p:blipFill>
        <p:spPr>
          <a:xfrm>
            <a:off x="3429000" y="5429160"/>
            <a:ext cx="1643040" cy="1314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síntomas de demencia abarcan dificultad con muchas áreas de la función mental, entre ell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lenguaj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memor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percepció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comportamiento emocional o la personali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s habilidades cognitivas (como el cálculo, pensamiento abstracto o la capacidad de discernimient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demencia aparece primero generalmente como olvi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3 Imagen" descr="prevenir-demencia.jpg"/>
          <p:cNvPicPr/>
          <p:nvPr/>
        </p:nvPicPr>
        <p:blipFill>
          <a:blip r:embed="rId2"/>
          <a:stretch/>
        </p:blipFill>
        <p:spPr>
          <a:xfrm>
            <a:off x="6910560" y="4500720"/>
            <a:ext cx="2233440" cy="20001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1 Título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l tratamiento depende de la afección causante de la demencia. Algunas personas pueden requerir hospitalización por un corto tiemp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a suspensión o el cambio de medicamentos que empeoran la confusión puede mejorar la función cerebr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xisten cada vez más datos que confirman que algunos tipos de ejercicios mentales pueden ayudar a paliar la demenc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3 Imagen" descr="cientificos-acercan-cura-demencia-el-alzheime-L-1.jpeg"/>
          <p:cNvPicPr/>
          <p:nvPr/>
        </p:nvPicPr>
        <p:blipFill>
          <a:blip r:embed="rId2"/>
          <a:stretch/>
        </p:blipFill>
        <p:spPr>
          <a:xfrm>
            <a:off x="6647040" y="0"/>
            <a:ext cx="2496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1 Título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4930920" cy="14018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29000" y="2285640"/>
            <a:ext cx="5114880" cy="210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c7c7c7"/>
              </a:gs>
            </a:gsLst>
            <a:lin ang="5400000"/>
          </a:gradFill>
          <a:ln w="1152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Medline plus ( PÁGINA PARA INFORMACIÓN SOBRE LA SALU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a2c64"/>
                </a:solidFill>
                <a:latin typeface="Trebuchet MS"/>
              </a:rPr>
              <a:t>-Libro de texto de CMC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1 Título" descr=""/>
          <p:cNvPicPr/>
          <p:nvPr/>
        </p:nvPicPr>
        <p:blipFill>
          <a:blip r:embed="rId1"/>
          <a:stretch/>
        </p:blipFill>
        <p:spPr>
          <a:xfrm>
            <a:off x="4913280" y="317520"/>
            <a:ext cx="3809880" cy="10476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285880" y="1857240"/>
            <a:ext cx="3643560" cy="4429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210f17"/>
                </a:solidFill>
                <a:latin typeface="Trebuchet MS"/>
              </a:rPr>
              <a:t>¿Qué es? </a:t>
            </a: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as personas que padecen bulimia son incapaces de dominar los impulsos que les llevan a comer, pero el sentimiento de culpa y vergüenza tras ingerir muchos alimentos les lleva a una purga (vómitos o empleo de laxantes o diuréticos ), regímenes rigurosos o ejercicio excesivo para contrarrestar los efectos de las abundantes comid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rebuchet MS"/>
              </a:rPr>
              <a:t>Los bulímicos tienen cerca de 15 episodios de atracones y vómitos por semana y, en general, su peso es normal, por lo que resulta difícil detectar la enfermedad. En un solo atracón pueden llegar a consumir de 10.000 a 40.000 calorías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4 Marcador de posición de imagen" descr="la_bulimia_1.jpg"/>
          <p:cNvPicPr/>
          <p:nvPr/>
        </p:nvPicPr>
        <p:blipFill>
          <a:blip r:embed="rId2"/>
          <a:stretch/>
        </p:blipFill>
        <p:spPr>
          <a:xfrm>
            <a:off x="-66600" y="-133200"/>
            <a:ext cx="5108400" cy="5106960"/>
          </a:xfrm>
          <a:prstGeom prst="rect">
            <a:avLst/>
          </a:prstGeom>
          <a:ln w="0">
            <a:noFill/>
          </a:ln>
        </p:spPr>
      </p:pic>
      <p:sp>
        <p:nvSpPr>
          <p:cNvPr id="226" name="5 CuadroTexto"/>
          <p:cNvSpPr/>
          <p:nvPr/>
        </p:nvSpPr>
        <p:spPr>
          <a:xfrm>
            <a:off x="214200" y="4357800"/>
            <a:ext cx="4857840" cy="2014200"/>
          </a:xfrm>
          <a:prstGeom prst="rect">
            <a:avLst/>
          </a:prstGeom>
          <a:gradFill rotWithShape="0">
            <a:gsLst>
              <a:gs pos="0">
                <a:srgbClr val="fff5e2"/>
              </a:gs>
              <a:gs pos="100000">
                <a:srgbClr val="ffe4b3"/>
              </a:gs>
            </a:gsLst>
            <a:lin ang="5400000"/>
          </a:gradFill>
          <a:ln w="11520">
            <a:solidFill>
              <a:srgbClr val="f9b639"/>
            </a:solidFill>
            <a:miter/>
          </a:ln>
          <a:effectLst>
            <a:outerShdw dist="24840" dir="5400000" blurRad="0" rotWithShape="0">
              <a:srgbClr val="ae71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5a2c64"/>
                </a:solidFill>
                <a:latin typeface="Trebuchet MS"/>
              </a:rPr>
              <a:t>Esta enfermedad afecta a los jóvenes y se manifiesta con más frecuencia en las mujeres. La media de edad de inicio se sitúa en los 19 años y las personas que han sufrido  anorexia o han realizado dietas sin control tienen un mayor riesgo de sufrir esta patología.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1 Título" descr=""/>
          <p:cNvPicPr/>
          <p:nvPr/>
        </p:nvPicPr>
        <p:blipFill>
          <a:blip r:embed="rId1"/>
          <a:stretch/>
        </p:blipFill>
        <p:spPr>
          <a:xfrm>
            <a:off x="133200" y="317520"/>
            <a:ext cx="78152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a8d3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Atracones o sobreingesta de alimentos: El enfermo come una gran cantidad de alimentos en un espacio de tiempo muy corto. No tiene control sobre la ingesta y es tal la ansiedad que cree que no puede parar de comer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Para prevenir el aumento de peso y compensar el atracón o el exceso de las comidas se provoca vómitos, utiliza laxantes, diuréticos, fármacos, o recurre a otros medios que le permitan controlar el peso, como la practica abusiva de actividades deportiva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os ciclos de atracones y vómitos se manifiestan un mínimo de dos veces por semana y puede llegar hasta 15 veces. 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a autoestima del enfermo es baja y la identifica con su cuerp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1 Título" descr=""/>
          <p:cNvPicPr/>
          <p:nvPr/>
        </p:nvPicPr>
        <p:blipFill>
          <a:blip r:embed="rId1"/>
          <a:stretch/>
        </p:blipFill>
        <p:spPr>
          <a:xfrm>
            <a:off x="-109440" y="-66600"/>
            <a:ext cx="7815240" cy="15350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bb494"/>
              </a:gs>
              <a:gs pos="100000">
                <a:srgbClr val="ff9654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5560" dir="5400000" blurRad="0" rotWithShape="0">
              <a:srgbClr val="985421">
                <a:alpha val="83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91f4d"/>
                </a:solidFill>
                <a:latin typeface="Trebuchet MS"/>
              </a:rPr>
              <a:t>Las dos aproximaciones al tratamiento son la psicoterapia y los fármacos. Es mejor que la psicoterapia la realice un terapeuta con experiencia en alteraciones del apetito, pudiendo resultar muy eficaz. Un fármaco antidepresivo a menudo puede ayudar a controlar la bulimia nerviosa, incluso cuando la persona no parece deprimida, pero el trastorno puede reaparecer al interrumpirse la administración del fármac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1 Título" descr=""/>
          <p:cNvPicPr/>
          <p:nvPr/>
        </p:nvPicPr>
        <p:blipFill>
          <a:blip r:embed="rId1"/>
          <a:stretch/>
        </p:blipFill>
        <p:spPr>
          <a:xfrm>
            <a:off x="4084560" y="334800"/>
            <a:ext cx="5291280" cy="17686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214960" y="2286000"/>
            <a:ext cx="3929040" cy="39290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¿Qué es? Es un síndrome conductual de causa poco clara, en la que probablemente intervienen factores genéticos y ambientales y en el que existe una alteración en el sistema nervioso central, que se manifiesta mediante un aumento de la actividad, impulsividad y falta de atención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El Trastorno por Déficit de Atención e Hiperactividad (TDAH) es una de las causas más frecuentes de fracaso escolar y de problemas sociales en la edad infantil. El síndrome aparece en la infancia y puede persistir y manifestarse en al edad adulta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3" name="4 Marcador de posición de imagen" descr="TDAH_03.jpg"/>
          <p:cNvPicPr/>
          <p:nvPr/>
        </p:nvPicPr>
        <p:blipFill>
          <a:blip r:embed="rId2"/>
          <a:stretch/>
        </p:blipFill>
        <p:spPr>
          <a:xfrm>
            <a:off x="304920" y="1847880"/>
            <a:ext cx="3968640" cy="391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 Título" descr=""/>
          <p:cNvPicPr/>
          <p:nvPr/>
        </p:nvPicPr>
        <p:blipFill>
          <a:blip r:embed="rId1"/>
          <a:stretch/>
        </p:blipFill>
        <p:spPr>
          <a:xfrm>
            <a:off x="85680" y="225360"/>
            <a:ext cx="6278760" cy="1182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57120" y="1500120"/>
            <a:ext cx="7338960" cy="500544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a2c64"/>
                </a:solidFill>
                <a:latin typeface="Trebuchet MS"/>
              </a:rPr>
              <a:t>Los niños son muy inquietos e impulsivos, y tienen problemas para prestar atención y para concentrarse. A pesar de intentarlo, son incapaces de escuchar correctamente, de organizar sus tareas, de seguir instrucciones complejas, de trabajar o jugar en equipo. El actuar sin pensar provoca problemas con padres, amigos y profesores. Suelen ser niños inquietos, siempre en movimiento, incapaces de permanecer sentados mucho tiempo o con una constante inquietud (que se ve en tamborileo de dedos, movimiento constante de los pies o las piernas).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C:\Documents and Settings\Admin\Configuración local\Archivos temporales de Internet\Content.IE5\6WHDKW3J\MM900283651[1].gif"/>
          <p:cNvPicPr/>
          <p:nvPr/>
        </p:nvPicPr>
        <p:blipFill>
          <a:blip r:embed="rId2"/>
          <a:stretch/>
        </p:blipFill>
        <p:spPr>
          <a:xfrm>
            <a:off x="7715160" y="285840"/>
            <a:ext cx="1130400" cy="160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1 Título" descr=""/>
          <p:cNvPicPr/>
          <p:nvPr/>
        </p:nvPicPr>
        <p:blipFill>
          <a:blip r:embed="rId1"/>
          <a:stretch/>
        </p:blipFill>
        <p:spPr>
          <a:xfrm>
            <a:off x="42840" y="225360"/>
            <a:ext cx="6321600" cy="1182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gradFill rotWithShape="0">
            <a:gsLst>
              <a:gs pos="0">
                <a:srgbClr val="fce8ed"/>
              </a:gs>
              <a:gs pos="100000">
                <a:srgbClr val="f0bec9"/>
              </a:gs>
            </a:gsLst>
            <a:lin ang="5400000"/>
          </a:gradFill>
          <a:ln w="11520">
            <a:solidFill>
              <a:srgbClr val="b83d68"/>
            </a:solidFill>
            <a:miter/>
          </a:ln>
          <a:effectLst>
            <a:outerShdw dist="24840" dir="5400000" blurRad="0" rotWithShape="0">
              <a:srgbClr val="7d0d34">
                <a:alpha val="3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Información exhaustiva a padres y profesor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farmacol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060"/>
                </a:solidFill>
                <a:latin typeface="Trebuchet MS"/>
              </a:rPr>
              <a:t>Tratamiento psicopedagóg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C:\Documents and Settings\Admin\Configuración local\Archivos temporales de Internet\Content.IE5\2OBVRK0W\MP900422829[1].jpg"/>
          <p:cNvPicPr/>
          <p:nvPr/>
        </p:nvPicPr>
        <p:blipFill>
          <a:blip r:embed="rId2"/>
          <a:stretch/>
        </p:blipFill>
        <p:spPr>
          <a:xfrm>
            <a:off x="6215040" y="278604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Admin\Configuración local\Archivos temporales de Internet\Content.IE5\R4F1DS82\MP900430840[1].jpg"/>
          <p:cNvPicPr/>
          <p:nvPr/>
        </p:nvPicPr>
        <p:blipFill>
          <a:blip r:embed="rId3"/>
          <a:stretch/>
        </p:blipFill>
        <p:spPr>
          <a:xfrm>
            <a:off x="5786280" y="214200"/>
            <a:ext cx="2332080" cy="1711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1 Título" descr=""/>
          <p:cNvPicPr/>
          <p:nvPr/>
        </p:nvPicPr>
        <p:blipFill>
          <a:blip r:embed="rId1"/>
          <a:stretch/>
        </p:blipFill>
        <p:spPr>
          <a:xfrm>
            <a:off x="4937040" y="353880"/>
            <a:ext cx="3944880" cy="1425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286240" y="2143080"/>
            <a:ext cx="3532320" cy="3060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8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os trastornos de la personalidad se definen como el conjunto de trastornos en los que las dimensiones emocionales, afectivas motivacionales y de relación social se encuentran perturbadas o presentan anormalidad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3" name="4 Marcador de posición de imagen" descr="trastorno-de-la-personalidad-limite.jpg"/>
          <p:cNvPicPr/>
          <p:nvPr/>
        </p:nvPicPr>
        <p:blipFill>
          <a:blip r:embed="rId2"/>
          <a:stretch/>
        </p:blipFill>
        <p:spPr>
          <a:xfrm>
            <a:off x="225360" y="689040"/>
            <a:ext cx="51087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1 Título" descr=""/>
          <p:cNvPicPr/>
          <p:nvPr/>
        </p:nvPicPr>
        <p:blipFill>
          <a:blip r:embed="rId1"/>
          <a:stretch/>
        </p:blipFill>
        <p:spPr>
          <a:xfrm>
            <a:off x="42840" y="317520"/>
            <a:ext cx="766296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ffece2"/>
              </a:gs>
              <a:gs pos="100000">
                <a:srgbClr val="ffcdb3"/>
              </a:gs>
            </a:gsLst>
            <a:lin ang="5400000"/>
          </a:gradFill>
          <a:ln w="11520">
            <a:solidFill>
              <a:srgbClr val="fa8d3d"/>
            </a:solidFill>
            <a:miter/>
          </a:ln>
          <a:effectLst>
            <a:outerShdw dist="24840" dir="5400000" blurRad="0" rotWithShape="0">
              <a:srgbClr val="ae4b03">
                <a:alpha val="38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Los síntomas varían ampliamente dependiendo del tipo de trastorno de la personalid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n general, los trastornos de la personalidad involucran sentimientos, pensamientos y comportamientos que no se adaptan a un amplio rango de escenario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os patrones generalmente comienzan en la adolescencia y pueden llevar a problemas en situaciones laborales y social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rebuchet MS"/>
              </a:rPr>
              <a:t>Estas afecciones varían de leves a grav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3 Imagen" descr="discutir252520habito.jpg"/>
          <p:cNvPicPr/>
          <p:nvPr/>
        </p:nvPicPr>
        <p:blipFill>
          <a:blip r:embed="rId2"/>
          <a:stretch/>
        </p:blipFill>
        <p:spPr>
          <a:xfrm>
            <a:off x="6072120" y="0"/>
            <a:ext cx="2079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3:08:22Z</dcterms:created>
  <dc:creator>Admin</dc:creator>
  <dc:description/>
  <dc:language>en-US</dc:language>
  <cp:lastModifiedBy>Admin</cp:lastModifiedBy>
  <dcterms:modified xsi:type="dcterms:W3CDTF">2012-04-22T15:47:28Z</dcterms:modified>
  <cp:revision>18</cp:revision>
  <dc:subject/>
  <dc:title>Diapositiva 1</dc:title>
</cp:coreProperties>
</file>