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1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3.png" ContentType="image/png"/>
  <Override PartName="/ppt/media/image14.gif" ContentType="image/gif"/>
  <Override PartName="/ppt/media/image15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chimes.wav" ContentType="audio/x-wav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4AC-A47C-4C31-A6F0-C9247B96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D34-36FC-49FA-9C1F-F9FFB65F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ECC-347F-481B-9C68-2176E1DC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711-E918-4C72-9B5D-668305F5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F220-E005-4CE8-88D4-94E922B2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4330-F4EA-420D-9AF4-3D5662D2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95B2-218C-4D12-A129-BBBC848B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3D16-98C2-4A67-A2CF-55373293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CA38-4BEA-439B-A0EB-FC531E1D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18E4-3FD4-4A4B-8DD8-11CB1CC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CC8B-4A00-4E7D-BB52-388AE973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F81-6556-4274-90CE-BF78C601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7416-D9C6-4561-ABC3-162A8344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03A7-11F3-42D0-8FC6-5E4D6E94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38E5-999F-47B1-A272-FA23B19F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BC53-2BCE-4E0C-9147-819A9354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1DBB-3AA6-4251-AB31-AD1D54F1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FBD4-F174-4216-83F0-DC35C322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68D2-5D34-435C-846C-DF87C254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B9BB-579D-40B4-83A4-C41DCBC8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4E1C-FBDB-4C7E-AE3E-88C3F5E3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D86E-9C9F-4C6E-A4E3-C25B2449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A8E-B4E4-452D-87CE-F76C635F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F2319-957D-4FF9-BE3E-C58F2E7B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7708-1512-4C94-8961-115F52CF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233ED-FEC5-4BEA-8079-B83CEBB3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3600-C4F1-44A3-B2F2-B660734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A667-D7C7-4264-BACA-F92C5725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69D5-06C8-4B6C-BFBA-71759DBD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27A6D-F7E3-4E70-B72A-6E632B75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C1665-CDF9-4BFB-AC76-1A0C687D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8957-FFC4-43F7-BD11-82BE74EE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765C-3A37-46EE-A4C5-249A9F86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B36-145D-452B-AFED-32EA688B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F4AFC-0009-48AA-A477-F1A44D4D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5E95-1EE3-4248-A4D1-BAE23600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BC577-CB13-4CC7-A67B-BF316A91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112A7-B6D6-4FEA-8DAF-45C374BB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B4C27-2561-4065-A498-131E741E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5D467-7F08-447F-8CAD-E8D8B688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5DD0D-2036-4A94-B5F1-71D806FD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057E8-2DEC-4358-ACAA-837A3AEE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74350-6A88-4E07-9044-2C687219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91610-7C7F-4E7F-A431-871A6C6D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4E1-5310-46D4-932E-2EC80422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B996E-86EE-4F00-9A31-168A076E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2BE3A-745D-4E94-B886-49A17928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B44F6-8C50-4C87-B878-A27753CF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E9FD6-E3A3-4E4F-9AA1-2D3F00E0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429C2-4BD8-4C13-AEAD-87CB2C3C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13FCD-AB99-4451-84FD-FF4D4F74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ABCD4-C588-4AF4-829D-03A3CFB1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2443D-9DDF-4670-9D92-13E8197B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2E831-90A9-42EC-8993-12D299D2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129FD-E7C3-467A-B8A8-AC69A82D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E6A-2619-422F-8918-F74ECBF6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48CED-7A4B-433E-86C4-4B666839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74F-C246-4615-8899-4261BEAE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0BF-E80B-493C-AFB5-193DE79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625-0A23-46A8-AB14-6A070662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A884-63D0-4751-AFCC-6CED1C6C9921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7E9E-4962-4204-AB00-CF0A1188116D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8D6C-3A35-43BE-A3FB-EFECE5A94B03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0DB2-B06D-4368-9F3E-0E23F92079E9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D43E-9825-4D1D-AD4B-AA3FEC4E790C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150400" cy="1481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listadecuriosidades.com/wp-content/uploads/2011/09/enfermedades-mentales.jpg"/>
          <p:cNvPicPr/>
          <p:nvPr/>
        </p:nvPicPr>
        <p:blipFill>
          <a:blip r:embed="rId2"/>
          <a:stretch/>
        </p:blipFill>
        <p:spPr>
          <a:xfrm>
            <a:off x="3071880" y="221472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214200" y="785880"/>
            <a:ext cx="235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Bulim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Síndrome de déficit de atención e hiperactivid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Trastornos de la personalid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Demenc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1 Título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ac66bb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l principio, las personas con estos trastornos usualmente no buscan tratamiento por su cuenta. Ellas tienden a buscar ayuda una vez que su comportamiento ha causado problemas graves en sus relaciones personales o en sus trabajos o cuando les diagnostican otro problema psiquiátrico, como un trastorno del estado anímico o drogadic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nque lleva tiempo tratar los trastornos de personalidad, hay indicios crecientes de que ciertas formas de psicoterapia pueden ayudar a muchas personas. En algunos casos, los medicamentos pueden ser un complemento útil para la terapi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4 Imagen" descr="psiquia_fig.jpg"/>
          <p:cNvPicPr/>
          <p:nvPr/>
        </p:nvPicPr>
        <p:blipFill>
          <a:blip r:embed="rId2"/>
          <a:stretch/>
        </p:blipFill>
        <p:spPr>
          <a:xfrm>
            <a:off x="7143840" y="0"/>
            <a:ext cx="1795320" cy="2265480"/>
          </a:xfrm>
          <a:prstGeom prst="rect">
            <a:avLst/>
          </a:prstGeom>
          <a:ln w="0">
            <a:noFill/>
          </a:ln>
        </p:spPr>
      </p:pic>
      <p:sp>
        <p:nvSpPr>
          <p:cNvPr id="250" name="5 CuadroTexto"/>
          <p:cNvSpPr/>
          <p:nvPr/>
        </p:nvSpPr>
        <p:spPr>
          <a:xfrm>
            <a:off x="5500800" y="571680"/>
            <a:ext cx="1500120" cy="6426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El grito de Munc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1 Título" descr=""/>
          <p:cNvPicPr/>
          <p:nvPr/>
        </p:nvPicPr>
        <p:blipFill>
          <a:blip r:embed="rId1"/>
          <a:stretch/>
        </p:blipFill>
        <p:spPr>
          <a:xfrm>
            <a:off x="4552920" y="-6480"/>
            <a:ext cx="4084560" cy="1140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571720" y="1356840"/>
            <a:ext cx="3143160" cy="4071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s una pérdida de la función cerebral que ocurre con ciertas enfermedades y afecta la memoria, el pensamiento, el lenguaje, el juicio y el comportamient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3" name="7 Imagen" descr="demenciasenil.gif"/>
          <p:cNvPicPr/>
          <p:nvPr/>
        </p:nvPicPr>
        <p:blipFill>
          <a:blip r:embed="rId2"/>
          <a:stretch/>
        </p:blipFill>
        <p:spPr>
          <a:xfrm rot="21348000">
            <a:off x="123480" y="1329840"/>
            <a:ext cx="5267160" cy="356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Admin\Configuración local\Archivos temporales de Internet\Content.IE5\2OBVRK0W\MP900402619[1].jpg"/>
          <p:cNvPicPr/>
          <p:nvPr/>
        </p:nvPicPr>
        <p:blipFill>
          <a:blip r:embed="rId3"/>
          <a:stretch/>
        </p:blipFill>
        <p:spPr>
          <a:xfrm>
            <a:off x="3429000" y="5429160"/>
            <a:ext cx="1643040" cy="1314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1 Título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síntomas de demencia abarcan dificultad con muchas áreas de la función mental, entre ello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lenguaj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memor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percepció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comportamiento emocional o la personalida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s habilidades cognitivas (como el cálculo, pensamiento abstracto o la capacidad de discernimient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demencia aparece primero generalmente como olvi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3 Imagen" descr="prevenir-demencia.jpg"/>
          <p:cNvPicPr/>
          <p:nvPr/>
        </p:nvPicPr>
        <p:blipFill>
          <a:blip r:embed="rId2"/>
          <a:stretch/>
        </p:blipFill>
        <p:spPr>
          <a:xfrm>
            <a:off x="6910560" y="4500720"/>
            <a:ext cx="2233440" cy="20001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1 Título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tratamiento depende de la afección causante de la demencia. Algunas personas pueden requerir hospitalización por un corto tiemp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a suspensión o el cambio de medicamentos que empeoran la confusión puede mejorar la función cerebr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xisten cada vez más datos que confirman que algunos tipos de ejercicios mentales pueden ayudar a paliar la demenci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3 Imagen" descr="cientificos-acercan-cura-demencia-el-alzheime-L-1.jpeg"/>
          <p:cNvPicPr/>
          <p:nvPr/>
        </p:nvPicPr>
        <p:blipFill>
          <a:blip r:embed="rId2"/>
          <a:stretch/>
        </p:blipFill>
        <p:spPr>
          <a:xfrm>
            <a:off x="6647040" y="0"/>
            <a:ext cx="2496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4930920" cy="14018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429000" y="2285640"/>
            <a:ext cx="5114880" cy="210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c7c7c7"/>
              </a:gs>
            </a:gsLst>
            <a:lin ang="5400000"/>
          </a:gradFill>
          <a:ln w="1152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a2c64"/>
                </a:solidFill>
                <a:latin typeface="Trebuchet MS"/>
              </a:rPr>
              <a:t>-Medline plus ( PÁGINA PARA INFORMACIÓN SOBRE LA SALU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a2c64"/>
                </a:solidFill>
                <a:latin typeface="Trebuchet MS"/>
              </a:rPr>
              <a:t>-Libro de texto de CMC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 Título" descr=""/>
          <p:cNvPicPr/>
          <p:nvPr/>
        </p:nvPicPr>
        <p:blipFill>
          <a:blip r:embed="rId1"/>
          <a:stretch/>
        </p:blipFill>
        <p:spPr>
          <a:xfrm>
            <a:off x="4913280" y="317520"/>
            <a:ext cx="3809880" cy="1047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285880" y="1857240"/>
            <a:ext cx="3643560" cy="44294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10f17"/>
                </a:solidFill>
                <a:latin typeface="Trebuchet MS"/>
              </a:rPr>
              <a:t>¿Qué es? </a:t>
            </a: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Las personas que padecen bulimia son incapaces de dominar los impulsos que les llevan a comer, pero el sentimiento de culpa y vergüenza tras ingerir muchos alimentos les lleva a una purga (vómitos o empleo de laxantes o diuréticos ), regímenes rigurosos o ejercicio excesivo para contrarrestar los efectos de las abundantes comida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Los bulímicos tienen cerca de 15 episodios de atracones y vómitos por semana y, en general, su peso es normal, por lo que resulta difícil detectar la enfermedad. En un solo atracón pueden llegar a consumir de 10.000 a 40.000 caloría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5" name="4 Marcador de posición de imagen" descr="la_bulimia_1.jpg"/>
          <p:cNvPicPr/>
          <p:nvPr/>
        </p:nvPicPr>
        <p:blipFill>
          <a:blip r:embed="rId2"/>
          <a:stretch/>
        </p:blipFill>
        <p:spPr>
          <a:xfrm>
            <a:off x="-66600" y="-133200"/>
            <a:ext cx="5108400" cy="5106960"/>
          </a:xfrm>
          <a:prstGeom prst="rect">
            <a:avLst/>
          </a:prstGeom>
          <a:ln w="0">
            <a:noFill/>
          </a:ln>
        </p:spPr>
      </p:pic>
      <p:sp>
        <p:nvSpPr>
          <p:cNvPr id="226" name="5 CuadroTexto"/>
          <p:cNvSpPr/>
          <p:nvPr/>
        </p:nvSpPr>
        <p:spPr>
          <a:xfrm>
            <a:off x="214200" y="4357800"/>
            <a:ext cx="4857840" cy="201420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a2c64"/>
                </a:solidFill>
                <a:latin typeface="Trebuchet MS"/>
              </a:rPr>
              <a:t>Esta enfermedad afecta a los jóvenes y se manifiesta con más frecuencia en las mujeres. La media de edad de inicio se sitúa en los 19 años y las personas que han sufrido  anorexia o han realizado dietas sin control tienen un mayor riesgo de sufrir esta patología.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1 Título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8152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a8d3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tracones o sobreingesta de alimentos: El enfermo come una gran cantidad de alimentos en un espacio de tiempo muy corto. No tiene control sobre la ingesta y es tal la ansiedad que cree que no puede parar de comer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ra prevenir el aumento de peso y compensar el atracón o el exceso de las comidas se provoca vómitos, utiliza laxantes, diuréticos, fármacos, o recurre a otros medios que le permitan controlar el peso, como la practica abusiva de actividades deportivas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os ciclos de atracones y vómitos se manifiestan un mínimo de dos veces por semana y puede llegar hasta 15 veces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autoestima del enfermo es baja y la identifica con su cuerp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1 Título" descr=""/>
          <p:cNvPicPr/>
          <p:nvPr/>
        </p:nvPicPr>
        <p:blipFill>
          <a:blip r:embed="rId1"/>
          <a:stretch/>
        </p:blipFill>
        <p:spPr>
          <a:xfrm>
            <a:off x="-109440" y="-66600"/>
            <a:ext cx="7815240" cy="1535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bb494"/>
              </a:gs>
              <a:gs pos="100000">
                <a:srgbClr val="ff9654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5560" dir="5400000" blurRad="0" rotWithShape="0">
              <a:srgbClr val="985421">
                <a:alpha val="83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91f4d"/>
                </a:solidFill>
                <a:latin typeface="Trebuchet MS"/>
              </a:rPr>
              <a:t>Las dos aproximaciones al tratamiento son la psicoterapia y los fármacos. Es mejor que la psicoterapia la realice un terapeuta con experiencia en alteraciones del apetito, pudiendo resultar muy eficaz. Un fármaco antidepresivo a menudo puede ayudar a controlar la bulimia nerviosa, incluso cuando la persona no parece deprimida, pero el trastorno puede reaparecer al interrumpirse la administración del fármac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1 Título" descr=""/>
          <p:cNvPicPr/>
          <p:nvPr/>
        </p:nvPicPr>
        <p:blipFill>
          <a:blip r:embed="rId1"/>
          <a:stretch/>
        </p:blipFill>
        <p:spPr>
          <a:xfrm>
            <a:off x="4084560" y="334800"/>
            <a:ext cx="5291280" cy="17686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214960" y="2286000"/>
            <a:ext cx="3929040" cy="39290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¿Qué es? Es un síndrome conductual de causa poco clara, en la que probablemente intervienen factores genéticos y ambientales y en el que existe una alteración en el sistema nervioso central, que se manifiesta mediante un aumento de la actividad, impulsividad y falta de atención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El Trastorno por Déficit de Atención e Hiperactividad (TDAH) es una de las causas más frecuentes de fracaso escolar y de problemas sociales en la edad infantil. El síndrome aparece en la infancia y puede persistir y manifestarse en al edad adulta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3" name="4 Marcador de posición de imagen" descr="TDAH_03.jpg"/>
          <p:cNvPicPr/>
          <p:nvPr/>
        </p:nvPicPr>
        <p:blipFill>
          <a:blip r:embed="rId2"/>
          <a:stretch/>
        </p:blipFill>
        <p:spPr>
          <a:xfrm>
            <a:off x="304920" y="1847880"/>
            <a:ext cx="3968640" cy="391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 Título" descr=""/>
          <p:cNvPicPr/>
          <p:nvPr/>
        </p:nvPicPr>
        <p:blipFill>
          <a:blip r:embed="rId1"/>
          <a:stretch/>
        </p:blipFill>
        <p:spPr>
          <a:xfrm>
            <a:off x="85680" y="225360"/>
            <a:ext cx="6278760" cy="1182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57120" y="1500120"/>
            <a:ext cx="7338960" cy="5005440"/>
          </a:xfrm>
          <a:prstGeom prst="rect">
            <a:avLst/>
          </a:prstGeom>
          <a:gradFill rotWithShape="0">
            <a:gsLst>
              <a:gs pos="0">
                <a:srgbClr val="ffece2"/>
              </a:gs>
              <a:gs pos="100000">
                <a:srgbClr val="ffcdb3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4840" dir="5400000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a2c64"/>
                </a:solidFill>
                <a:latin typeface="Trebuchet MS"/>
              </a:rPr>
              <a:t>Los niños son muy inquietos e impulsivos, y tienen problemas para prestar atención y para concentrarse. A pesar de intentarlo, son incapaces de escuchar correctamente, de organizar sus tareas, de seguir instrucciones complejas, de trabajar o jugar en equipo. El actuar sin pensar provoca problemas con padres, amigos y profesores. Suelen ser niños inquietos, siempre en movimiento, incapaces de permanecer sentados mucho tiempo o con una constante inquietud (que se ve en tamborileo de dedos, movimiento constante de los pies o las piernas)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C:\Documents and Settings\Admin\Configuración local\Archivos temporales de Internet\Content.IE5\6WHDKW3J\MM900283651[1].gif"/>
          <p:cNvPicPr/>
          <p:nvPr/>
        </p:nvPicPr>
        <p:blipFill>
          <a:blip r:embed="rId2"/>
          <a:stretch/>
        </p:blipFill>
        <p:spPr>
          <a:xfrm>
            <a:off x="7715160" y="285840"/>
            <a:ext cx="1130400" cy="1603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1 Título" descr=""/>
          <p:cNvPicPr/>
          <p:nvPr/>
        </p:nvPicPr>
        <p:blipFill>
          <a:blip r:embed="rId1"/>
          <a:stretch/>
        </p:blipFill>
        <p:spPr>
          <a:xfrm>
            <a:off x="42840" y="225360"/>
            <a:ext cx="6321600" cy="1182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gradFill rotWithShape="0">
            <a:gsLst>
              <a:gs pos="0">
                <a:srgbClr val="fce8ed"/>
              </a:gs>
              <a:gs pos="100000">
                <a:srgbClr val="f0bec9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Información exhaustiva a padres y profesor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Tratamiento farmacológ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Tratamiento psicopedagóg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C:\Documents and Settings\Admin\Configuración local\Archivos temporales de Internet\Content.IE5\2OBVRK0W\MP900422829[1].jpg"/>
          <p:cNvPicPr/>
          <p:nvPr/>
        </p:nvPicPr>
        <p:blipFill>
          <a:blip r:embed="rId2"/>
          <a:stretch/>
        </p:blipFill>
        <p:spPr>
          <a:xfrm>
            <a:off x="6215040" y="278604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Admin\Configuración local\Archivos temporales de Internet\Content.IE5\R4F1DS82\MP900430840[1].jpg"/>
          <p:cNvPicPr/>
          <p:nvPr/>
        </p:nvPicPr>
        <p:blipFill>
          <a:blip r:embed="rId3"/>
          <a:stretch/>
        </p:blipFill>
        <p:spPr>
          <a:xfrm>
            <a:off x="5786280" y="214200"/>
            <a:ext cx="2332080" cy="1711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1 Título" descr=""/>
          <p:cNvPicPr/>
          <p:nvPr/>
        </p:nvPicPr>
        <p:blipFill>
          <a:blip r:embed="rId1"/>
          <a:stretch/>
        </p:blipFill>
        <p:spPr>
          <a:xfrm>
            <a:off x="4937040" y="353880"/>
            <a:ext cx="3944880" cy="1425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286240" y="2143080"/>
            <a:ext cx="3532320" cy="30607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8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Los trastornos de la personalidad se definen como el conjunto de trastornos en los que las dimensiones emocionales, afectivas motivacionales y de relación social se encuentran perturbadas o presentan anormalidade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4 Marcador de posición de imagen" descr="trastorno-de-la-personalidad-limite.jpg"/>
          <p:cNvPicPr/>
          <p:nvPr/>
        </p:nvPicPr>
        <p:blipFill>
          <a:blip r:embed="rId2"/>
          <a:stretch/>
        </p:blipFill>
        <p:spPr>
          <a:xfrm>
            <a:off x="225360" y="689040"/>
            <a:ext cx="51087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1 Título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fece2"/>
              </a:gs>
              <a:gs pos="100000">
                <a:srgbClr val="ffcdb3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4840" dir="5400000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os síntomas varían ampliamente dependiendo del tipo de trastorno de la personalida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n general, los trastornos de la personalidad involucran sentimientos, pensamientos y comportamientos que no se adaptan a un amplio rango de escenari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stos patrones generalmente comienzan en la adolescencia y pueden llevar a problemas en situaciones laborales y social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stas afecciones varían de leves a gra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3 Imagen" descr="discutir252520habito.jpg"/>
          <p:cNvPicPr/>
          <p:nvPr/>
        </p:nvPicPr>
        <p:blipFill>
          <a:blip r:embed="rId2"/>
          <a:stretch/>
        </p:blipFill>
        <p:spPr>
          <a:xfrm>
            <a:off x="6072120" y="0"/>
            <a:ext cx="2079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08:22Z</dcterms:created>
  <dc:creator>Admin</dc:creator>
  <dc:description/>
  <dc:language>en-US</dc:language>
  <cp:lastModifiedBy>Admin</cp:lastModifiedBy>
  <dcterms:modified xsi:type="dcterms:W3CDTF">2012-04-22T15:47:28Z</dcterms:modified>
  <cp:revision>18</cp:revision>
  <dc:subject/>
  <dc:title>Diapositiva 1</dc:title>
</cp:coreProperties>
</file>