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1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3.png" ContentType="image/png"/>
  <Override PartName="/ppt/media/image14.gif" ContentType="image/gif"/>
  <Override PartName="/ppt/media/image15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chimes.wav" ContentType="audio/x-wav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0B1-2AEF-4AE3-9E4D-63C03539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954-14F8-4FB3-A94C-A56F4FFC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AD3-E940-49A2-91AD-33DE9939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72E-AEB9-49E8-BF68-A870A028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A190-AA2B-4BBF-B8DB-A7137460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A235-20BA-483A-8F5F-D8400BED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5125-1511-449B-BE1A-F5F22E41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D7E3-EB71-4D7E-9B5E-FBAA1C8C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823E-5A17-40ED-995F-BFD5C381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BFF4-CA2B-4839-A46E-5DD333BE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F4BE-01BD-4D46-9B2F-D035DB1A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247-EF65-4CC2-988D-D1B75936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6168-C5F7-4A24-8345-CD98281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A76E-8CD0-47DF-B25B-C8965836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4542-831A-4D61-9EB0-046CF5C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E67-1750-453E-9A4F-F1189BD4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2695-C573-4F76-BAFA-BCEE39FF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0CAB2-90B7-41ED-B610-13174348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5BE5-7814-4AC8-B2D3-06DCB0EA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3E2E-B9AA-4807-A745-52B04740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6B16-B9DF-46AA-8B0F-88AD92E8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5580-815B-4FAF-AE7D-5943B27C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69B-6D95-4FBF-BB13-7A6C2B36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CB59-44C8-4998-881A-8641A428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3624-8575-4E94-9E7D-747EE208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AC2B-212C-426B-89CB-66DAC2E2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1EB1-7AF9-409C-B078-CC03464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62B9-520C-4569-BC5D-DDA3B4EC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5AEC-0148-46BB-99B7-05ED341F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1AEB-CC89-45A4-9B54-BE9CE99C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8A14-96FD-4E5D-B633-1B9A6CCA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F656A-B992-4985-AE2E-DF235ECF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0632-2426-4658-A04B-302D1A25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B1A-C71B-4822-A542-B4019A93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75DAE-E608-4AF7-9780-7F94F7BB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BA51-8FCE-4A93-8143-4F521046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FF337-B34C-4621-A2C3-AE825E43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F572-7576-4A64-8BF1-8739E314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D75F-284D-46CD-AEB4-B9C5BA6E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9FF0-C17A-42F0-B24E-17BDBF8C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00A4F-72EE-4C41-91CC-C77332A6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1A796-D40F-4A33-B5B1-6F515FC9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C9AED-423D-4645-89CD-6DBB1627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EA3B2-0202-41B6-9BBF-0BD1FB5C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86B-FD5B-4567-9383-69F77284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B8341-7EAD-480C-96CD-9EDFAC9B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E1BCE-BD00-44C2-A948-36EA8D9F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8E71-A38D-49FE-89A8-96D8065F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6B305-E6D2-4300-B8E0-58F06735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8CAC0-2D30-4E53-BC5E-22B74314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7ABF9-034E-4784-85D4-2D35AC90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E9123-5AD7-42D1-812D-6A2DC9A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CBD90-BFD8-46D2-A657-4BBD4AB9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B0912-F770-43FE-8158-A652E31E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C543E-DB3E-40B4-8A1F-9A6B64B0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779-51E6-4EBB-B333-AF5216E7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3421E-B70E-4A12-B21B-D6F5D0CD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204-9F16-4A08-9C27-9592F84B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46B-04ED-4624-982A-EB71020F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595-504A-4E4B-87D0-9C275DA0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C52C-D12A-437C-8142-78EE9BADF9F2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744C-7218-435D-8FCD-7FFBF9CA9065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D1F-EB81-48A6-A248-B6D2A6C41B56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50C7-A806-447B-97A7-B3EFD45926FB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1AC-B76D-43B2-9AAE-95332C2C70F6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150400" cy="1481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listadecuriosidades.com/wp-content/uploads/2011/09/enfermedades-mentales.jpg"/>
          <p:cNvPicPr/>
          <p:nvPr/>
        </p:nvPicPr>
        <p:blipFill>
          <a:blip r:embed="rId2"/>
          <a:stretch/>
        </p:blipFill>
        <p:spPr>
          <a:xfrm>
            <a:off x="3071880" y="221472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214200" y="785880"/>
            <a:ext cx="235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Bulim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Síndrome de déficit de atención e hiperactivid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Trastornos de la personalid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Demenc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1 Título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ac66bb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l principio, las personas con estos trastornos usualmente no buscan tratamiento por su cuenta. Ellas tienden a buscar ayuda una vez que su comportamiento ha causado problemas graves en sus relaciones personales o en sus trabajos o cuando les diagnostican otro problema psiquiátrico, como un trastorno del estado anímico o drogadic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nque lleva tiempo tratar los trastornos de personalidad, hay indicios crecientes de que ciertas formas de psicoterapia pueden ayudar a muchas personas. En algunos casos, los medicamentos pueden ser un complemento útil para la terapi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4 Imagen" descr="psiquia_fig.jpg"/>
          <p:cNvPicPr/>
          <p:nvPr/>
        </p:nvPicPr>
        <p:blipFill>
          <a:blip r:embed="rId2"/>
          <a:stretch/>
        </p:blipFill>
        <p:spPr>
          <a:xfrm>
            <a:off x="7143840" y="0"/>
            <a:ext cx="1795320" cy="2265480"/>
          </a:xfrm>
          <a:prstGeom prst="rect">
            <a:avLst/>
          </a:prstGeom>
          <a:ln w="0">
            <a:noFill/>
          </a:ln>
        </p:spPr>
      </p:pic>
      <p:sp>
        <p:nvSpPr>
          <p:cNvPr id="250" name="5 CuadroTexto"/>
          <p:cNvSpPr/>
          <p:nvPr/>
        </p:nvSpPr>
        <p:spPr>
          <a:xfrm>
            <a:off x="5500800" y="571680"/>
            <a:ext cx="1500120" cy="6426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El grito de Munc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1 Título" descr=""/>
          <p:cNvPicPr/>
          <p:nvPr/>
        </p:nvPicPr>
        <p:blipFill>
          <a:blip r:embed="rId1"/>
          <a:stretch/>
        </p:blipFill>
        <p:spPr>
          <a:xfrm>
            <a:off x="4552920" y="-6480"/>
            <a:ext cx="4084560" cy="1140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571720" y="1356840"/>
            <a:ext cx="3143160" cy="4071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s una pérdida de la función cerebral que ocurre con ciertas enfermedades y afecta la memoria, el pensamiento, el lenguaje, el juicio y el comportamient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3" name="7 Imagen" descr="demenciasenil.gif"/>
          <p:cNvPicPr/>
          <p:nvPr/>
        </p:nvPicPr>
        <p:blipFill>
          <a:blip r:embed="rId2"/>
          <a:stretch/>
        </p:blipFill>
        <p:spPr>
          <a:xfrm rot="21348000">
            <a:off x="123480" y="1329840"/>
            <a:ext cx="5267160" cy="356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Admin\Configuración local\Archivos temporales de Internet\Content.IE5\2OBVRK0W\MP900402619[1].jpg"/>
          <p:cNvPicPr/>
          <p:nvPr/>
        </p:nvPicPr>
        <p:blipFill>
          <a:blip r:embed="rId3"/>
          <a:stretch/>
        </p:blipFill>
        <p:spPr>
          <a:xfrm>
            <a:off x="3429000" y="5429160"/>
            <a:ext cx="1643040" cy="1314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1 Título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síntomas de demencia abarcan dificultad con muchas áreas de la función mental, entre ello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lenguaj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memor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percepció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comportamiento emocional o la personalida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s habilidades cognitivas (como el cálculo, pensamiento abstracto o la capacidad de discernimient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demencia aparece primero generalmente como olvi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3 Imagen" descr="prevenir-demencia.jpg"/>
          <p:cNvPicPr/>
          <p:nvPr/>
        </p:nvPicPr>
        <p:blipFill>
          <a:blip r:embed="rId2"/>
          <a:stretch/>
        </p:blipFill>
        <p:spPr>
          <a:xfrm>
            <a:off x="6910560" y="4500720"/>
            <a:ext cx="2233440" cy="20001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1 Título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tratamiento depende de la afección causante de la demencia. Algunas personas pueden requerir hospitalización por un corto tiemp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a suspensión o el cambio de medicamentos que empeoran la confusión puede mejorar la función cerebr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xisten cada vez más datos que confirman que algunos tipos de ejercicios mentales pueden ayudar a paliar la demenci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3 Imagen" descr="cientificos-acercan-cura-demencia-el-alzheime-L-1.jpeg"/>
          <p:cNvPicPr/>
          <p:nvPr/>
        </p:nvPicPr>
        <p:blipFill>
          <a:blip r:embed="rId2"/>
          <a:stretch/>
        </p:blipFill>
        <p:spPr>
          <a:xfrm>
            <a:off x="6647040" y="0"/>
            <a:ext cx="2496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4930920" cy="14018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429000" y="2285640"/>
            <a:ext cx="5114880" cy="210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c7c7c7"/>
              </a:gs>
            </a:gsLst>
            <a:lin ang="5400000"/>
          </a:gradFill>
          <a:ln w="1152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a2c64"/>
                </a:solidFill>
                <a:latin typeface="Trebuchet MS"/>
              </a:rPr>
              <a:t>-Medline plus ( PÁGINA PARA INFORMACIÓN SOBRE LA SALU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a2c64"/>
                </a:solidFill>
                <a:latin typeface="Trebuchet MS"/>
              </a:rPr>
              <a:t>-Libro de texto de CMC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 Título" descr=""/>
          <p:cNvPicPr/>
          <p:nvPr/>
        </p:nvPicPr>
        <p:blipFill>
          <a:blip r:embed="rId1"/>
          <a:stretch/>
        </p:blipFill>
        <p:spPr>
          <a:xfrm>
            <a:off x="4913280" y="317520"/>
            <a:ext cx="3809880" cy="1047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285880" y="1857240"/>
            <a:ext cx="3643560" cy="44294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10f17"/>
                </a:solidFill>
                <a:latin typeface="Trebuchet MS"/>
              </a:rPr>
              <a:t>¿Qué es? </a:t>
            </a: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Las personas que padecen bulimia son incapaces de dominar los impulsos que les llevan a comer, pero el sentimiento de culpa y vergüenza tras ingerir muchos alimentos les lleva a una purga (vómitos o empleo de laxantes o diuréticos ), regímenes rigurosos o ejercicio excesivo para contrarrestar los efectos de las abundantes comida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Los bulímicos tienen cerca de 15 episodios de atracones y vómitos por semana y, en general, su peso es normal, por lo que resulta difícil detectar la enfermedad. En un solo atracón pueden llegar a consumir de 10.000 a 40.000 caloría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5" name="4 Marcador de posición de imagen" descr="la_bulimia_1.jpg"/>
          <p:cNvPicPr/>
          <p:nvPr/>
        </p:nvPicPr>
        <p:blipFill>
          <a:blip r:embed="rId2"/>
          <a:stretch/>
        </p:blipFill>
        <p:spPr>
          <a:xfrm>
            <a:off x="-66600" y="-133200"/>
            <a:ext cx="5108400" cy="5106960"/>
          </a:xfrm>
          <a:prstGeom prst="rect">
            <a:avLst/>
          </a:prstGeom>
          <a:ln w="0">
            <a:noFill/>
          </a:ln>
        </p:spPr>
      </p:pic>
      <p:sp>
        <p:nvSpPr>
          <p:cNvPr id="226" name="5 CuadroTexto"/>
          <p:cNvSpPr/>
          <p:nvPr/>
        </p:nvSpPr>
        <p:spPr>
          <a:xfrm>
            <a:off x="214200" y="4357800"/>
            <a:ext cx="4857840" cy="201420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a2c64"/>
                </a:solidFill>
                <a:latin typeface="Trebuchet MS"/>
              </a:rPr>
              <a:t>Esta enfermedad afecta a los jóvenes y se manifiesta con más frecuencia en las mujeres. La media de edad de inicio se sitúa en los 19 años y las personas que han sufrido  anorexia o han realizado dietas sin control tienen un mayor riesgo de sufrir esta patología.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1 Título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8152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a8d3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tracones o sobreingesta de alimentos: El enfermo come una gran cantidad de alimentos en un espacio de tiempo muy corto. No tiene control sobre la ingesta y es tal la ansiedad que cree que no puede parar de comer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ra prevenir el aumento de peso y compensar el atracón o el exceso de las comidas se provoca vómitos, utiliza laxantes, diuréticos, fármacos, o recurre a otros medios que le permitan controlar el peso, como la practica abusiva de actividades deportivas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os ciclos de atracones y vómitos se manifiestan un mínimo de dos veces por semana y puede llegar hasta 15 veces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autoestima del enfermo es baja y la identifica con su cuerp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1 Título" descr=""/>
          <p:cNvPicPr/>
          <p:nvPr/>
        </p:nvPicPr>
        <p:blipFill>
          <a:blip r:embed="rId1"/>
          <a:stretch/>
        </p:blipFill>
        <p:spPr>
          <a:xfrm>
            <a:off x="-109440" y="-66600"/>
            <a:ext cx="7815240" cy="1535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bb494"/>
              </a:gs>
              <a:gs pos="100000">
                <a:srgbClr val="ff9654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5560" dir="5400000" blurRad="0" rotWithShape="0">
              <a:srgbClr val="985421">
                <a:alpha val="83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91f4d"/>
                </a:solidFill>
                <a:latin typeface="Trebuchet MS"/>
              </a:rPr>
              <a:t>Las dos aproximaciones al tratamiento son la psicoterapia y los fármacos. Es mejor que la psicoterapia la realice un terapeuta con experiencia en alteraciones del apetito, pudiendo resultar muy eficaz. Un fármaco antidepresivo a menudo puede ayudar a controlar la bulimia nerviosa, incluso cuando la persona no parece deprimida, pero el trastorno puede reaparecer al interrumpirse la administración del fármac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1 Título" descr=""/>
          <p:cNvPicPr/>
          <p:nvPr/>
        </p:nvPicPr>
        <p:blipFill>
          <a:blip r:embed="rId1"/>
          <a:stretch/>
        </p:blipFill>
        <p:spPr>
          <a:xfrm>
            <a:off x="4084560" y="334800"/>
            <a:ext cx="5291280" cy="17686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214960" y="2286000"/>
            <a:ext cx="3929040" cy="39290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¿Qué es? Es un síndrome conductual de causa poco clara, en la que probablemente intervienen factores genéticos y ambientales y en el que existe una alteración en el sistema nervioso central, que se manifiesta mediante un aumento de la actividad, impulsividad y falta de atención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El Trastorno por Déficit de Atención e Hiperactividad (TDAH) es una de las causas más frecuentes de fracaso escolar y de problemas sociales en la edad infantil. El síndrome aparece en la infancia y puede persistir y manifestarse en al edad adulta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3" name="4 Marcador de posición de imagen" descr="TDAH_03.jpg"/>
          <p:cNvPicPr/>
          <p:nvPr/>
        </p:nvPicPr>
        <p:blipFill>
          <a:blip r:embed="rId2"/>
          <a:stretch/>
        </p:blipFill>
        <p:spPr>
          <a:xfrm>
            <a:off x="304920" y="1847880"/>
            <a:ext cx="3968640" cy="391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 Título" descr=""/>
          <p:cNvPicPr/>
          <p:nvPr/>
        </p:nvPicPr>
        <p:blipFill>
          <a:blip r:embed="rId1"/>
          <a:stretch/>
        </p:blipFill>
        <p:spPr>
          <a:xfrm>
            <a:off x="85680" y="225360"/>
            <a:ext cx="6278760" cy="1182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57120" y="1500120"/>
            <a:ext cx="7338960" cy="5005440"/>
          </a:xfrm>
          <a:prstGeom prst="rect">
            <a:avLst/>
          </a:prstGeom>
          <a:gradFill rotWithShape="0">
            <a:gsLst>
              <a:gs pos="0">
                <a:srgbClr val="ffece2"/>
              </a:gs>
              <a:gs pos="100000">
                <a:srgbClr val="ffcdb3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4840" dir="5400000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a2c64"/>
                </a:solidFill>
                <a:latin typeface="Trebuchet MS"/>
              </a:rPr>
              <a:t>Los niños son muy inquietos e impulsivos, y tienen problemas para prestar atención y para concentrarse. A pesar de intentarlo, son incapaces de escuchar correctamente, de organizar sus tareas, de seguir instrucciones complejas, de trabajar o jugar en equipo. El actuar sin pensar provoca problemas con padres, amigos y profesores. Suelen ser niños inquietos, siempre en movimiento, incapaces de permanecer sentados mucho tiempo o con una constante inquietud (que se ve en tamborileo de dedos, movimiento constante de los pies o las piernas)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C:\Documents and Settings\Admin\Configuración local\Archivos temporales de Internet\Content.IE5\6WHDKW3J\MM900283651[1].gif"/>
          <p:cNvPicPr/>
          <p:nvPr/>
        </p:nvPicPr>
        <p:blipFill>
          <a:blip r:embed="rId2"/>
          <a:stretch/>
        </p:blipFill>
        <p:spPr>
          <a:xfrm>
            <a:off x="7715160" y="285840"/>
            <a:ext cx="1130400" cy="1603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1 Título" descr=""/>
          <p:cNvPicPr/>
          <p:nvPr/>
        </p:nvPicPr>
        <p:blipFill>
          <a:blip r:embed="rId1"/>
          <a:stretch/>
        </p:blipFill>
        <p:spPr>
          <a:xfrm>
            <a:off x="42840" y="225360"/>
            <a:ext cx="6321600" cy="1182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gradFill rotWithShape="0">
            <a:gsLst>
              <a:gs pos="0">
                <a:srgbClr val="fce8ed"/>
              </a:gs>
              <a:gs pos="100000">
                <a:srgbClr val="f0bec9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Información exhaustiva a padres y profesor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Tratamiento farmacológ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Tratamiento psicopedagóg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C:\Documents and Settings\Admin\Configuración local\Archivos temporales de Internet\Content.IE5\2OBVRK0W\MP900422829[1].jpg"/>
          <p:cNvPicPr/>
          <p:nvPr/>
        </p:nvPicPr>
        <p:blipFill>
          <a:blip r:embed="rId2"/>
          <a:stretch/>
        </p:blipFill>
        <p:spPr>
          <a:xfrm>
            <a:off x="6215040" y="278604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Admin\Configuración local\Archivos temporales de Internet\Content.IE5\R4F1DS82\MP900430840[1].jpg"/>
          <p:cNvPicPr/>
          <p:nvPr/>
        </p:nvPicPr>
        <p:blipFill>
          <a:blip r:embed="rId3"/>
          <a:stretch/>
        </p:blipFill>
        <p:spPr>
          <a:xfrm>
            <a:off x="5786280" y="214200"/>
            <a:ext cx="2332080" cy="1711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1 Título" descr=""/>
          <p:cNvPicPr/>
          <p:nvPr/>
        </p:nvPicPr>
        <p:blipFill>
          <a:blip r:embed="rId1"/>
          <a:stretch/>
        </p:blipFill>
        <p:spPr>
          <a:xfrm>
            <a:off x="4937040" y="353880"/>
            <a:ext cx="3944880" cy="1425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286240" y="2143080"/>
            <a:ext cx="3532320" cy="30607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8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Los trastornos de la personalidad se definen como el conjunto de trastornos en los que las dimensiones emocionales, afectivas motivacionales y de relación social se encuentran perturbadas o presentan anormalidade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4 Marcador de posición de imagen" descr="trastorno-de-la-personalidad-limite.jpg"/>
          <p:cNvPicPr/>
          <p:nvPr/>
        </p:nvPicPr>
        <p:blipFill>
          <a:blip r:embed="rId2"/>
          <a:stretch/>
        </p:blipFill>
        <p:spPr>
          <a:xfrm>
            <a:off x="225360" y="689040"/>
            <a:ext cx="51087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1 Título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fece2"/>
              </a:gs>
              <a:gs pos="100000">
                <a:srgbClr val="ffcdb3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4840" dir="5400000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os síntomas varían ampliamente dependiendo del tipo de trastorno de la personalida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n general, los trastornos de la personalidad involucran sentimientos, pensamientos y comportamientos que no se adaptan a un amplio rango de escenari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stos patrones generalmente comienzan en la adolescencia y pueden llevar a problemas en situaciones laborales y social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stas afecciones varían de leves a gra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3 Imagen" descr="discutir252520habito.jpg"/>
          <p:cNvPicPr/>
          <p:nvPr/>
        </p:nvPicPr>
        <p:blipFill>
          <a:blip r:embed="rId2"/>
          <a:stretch/>
        </p:blipFill>
        <p:spPr>
          <a:xfrm>
            <a:off x="6072120" y="0"/>
            <a:ext cx="2079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08:22Z</dcterms:created>
  <dc:creator>Admin</dc:creator>
  <dc:description/>
  <dc:language>en-US</dc:language>
  <cp:lastModifiedBy>Admin</cp:lastModifiedBy>
  <dcterms:modified xsi:type="dcterms:W3CDTF">2012-04-22T15:47:28Z</dcterms:modified>
  <cp:revision>18</cp:revision>
  <dc:subject/>
  <dc:title>Diapositiva 1</dc:title>
</cp:coreProperties>
</file>