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25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1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png" ContentType="image/png"/>
  <Override PartName="/ppt/media/image23.jpeg" ContentType="image/jpeg"/>
  <Override PartName="/ppt/media/image1.png" ContentType="image/png"/>
  <Override PartName="/ppt/media/image24.png" ContentType="image/png"/>
  <Override PartName="/ppt/media/image13.png" ContentType="image/png"/>
  <Override PartName="/ppt/media/image14.gif" ContentType="image/gif"/>
  <Override PartName="/ppt/media/image15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chimes.wav" ContentType="audio/x-wav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9BB-04E4-49DC-83FE-AFD3CF18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786F-AA4B-4469-8DC6-4858BD85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875-8D13-417E-9A7F-0389A106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C24-3AAD-443F-88E1-9E735F38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9A7C-9FAA-468F-91F5-6A2D1B41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A710-7CEA-4351-8312-8326BF55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9E68-52FE-4D6A-B9BA-08847DB4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0C0B-96CD-4F6C-9104-D48B5761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48AB-7A2D-47B3-876A-FC487317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8F83-4A4F-4E2E-86BE-D7E30C14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1C1F-F285-4BE5-ADCB-D3345747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D92-5E56-4D25-A6C6-68085150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7E3B-D7ED-4757-892D-9914CA8F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1435-F481-4C5E-9DBA-B1AB58F4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F2F6-4E4B-49A0-875E-2A4E3BCC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42F0-628D-47FD-9666-165480F3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1F6F-ACF1-472E-A0C3-D462B62D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878A2-AD56-4AC7-BAB4-B477E7D4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6A298-2D57-407A-BD16-3B7F3D77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BE885-FEF3-430E-B2F2-C2C6D039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C908-9278-41DB-9B7D-394A93D5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063E5-E55E-4699-A6D7-6A35DD9B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A07D-15C3-48FA-A737-70FC012C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121F-C071-469C-BD23-7D39B793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A0751-4529-4CB6-BC9F-0369B373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9A98A-1AD9-4A58-9E95-FC522FF0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E346D-9565-4CD2-825B-FEE0EBCB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32F6D-34AB-4BF8-8B46-5DD25269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6804C-4975-4420-AF0A-B430D2C1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CC3C-8E3C-4128-A5B1-6B6F103A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2D7A2-276F-412B-B275-DE51F07E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FB05C-8D7C-498A-8BF3-D0D886A4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481C2-7C50-45E7-8944-781A9A46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59A7-5C6E-48A1-9A42-87BB0D84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2A481-3E17-49CF-B9CE-75030CBE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B390F-C98D-4949-B9D8-C26BA134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7843A-1979-4510-9698-5EEC4866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C6482-C669-447D-895D-13640BF6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78118-9639-4E34-8121-94834919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208BA-4218-411B-838F-9A552C64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EBAC2-8C22-4835-A7C2-C4964E72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2AF50-8C95-4A4E-9538-C9C42BE7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FF533-FD53-4C18-83C4-D2D9048C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ACF7E-5040-4853-8A56-55FA735C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789-5892-4C9F-80DA-714BF9FB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AE156-6AD4-4C58-B6E5-01D08236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4F46F-1BA3-4EE9-B5AD-E2C2F875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55861-FFDB-4C5E-82A8-AA3A56A7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4D51B-4F50-41A7-A214-B544BF2E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93974-D457-498B-852D-BA241DDE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9C2C1-19E3-4BC9-827C-5BD51D60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DF075-C920-4B50-905F-8135B349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FAE34-BA0F-4CD4-A261-73DBE8DD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698A7-386B-45EE-97B0-B87CD358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9048A-42E6-42AF-8987-6724D1B7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262-FA8E-479B-B9F1-F54DB344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620F7-AAC3-45A8-B72D-50B68566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A035-9B0A-429F-88C8-1FF46061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FAB5-4934-430D-A54D-EA489363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51E-4EED-4595-886B-A6977774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6873-1E1D-4CD4-B9A3-5FEF83591DD4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50EF-0358-4D8C-99F5-F593D68EE1E4}" type="slidenum">
              <a:rPr b="0" lang="es-E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8F1A-D540-4D26-8947-A809BF479108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07D2-5F44-4FF9-9F7E-55FDE749DA00}" type="slidenum">
              <a:rPr b="0" lang="es-E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34E2-F12D-4D07-8074-609E82506926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1 Título" descr=""/>
          <p:cNvPicPr/>
          <p:nvPr/>
        </p:nvPicPr>
        <p:blipFill>
          <a:blip r:embed="rId1"/>
          <a:stretch/>
        </p:blipFill>
        <p:spPr>
          <a:xfrm>
            <a:off x="493560" y="353880"/>
            <a:ext cx="8150400" cy="1481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listadecuriosidades.com/wp-content/uploads/2011/09/enfermedades-mentales.jpg"/>
          <p:cNvPicPr/>
          <p:nvPr/>
        </p:nvPicPr>
        <p:blipFill>
          <a:blip r:embed="rId2"/>
          <a:stretch/>
        </p:blipFill>
        <p:spPr>
          <a:xfrm>
            <a:off x="3071880" y="2214720"/>
            <a:ext cx="3571920" cy="3600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214200" y="785880"/>
            <a:ext cx="2357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852f74"/>
                </a:solidFill>
                <a:latin typeface="Trebuchet MS"/>
              </a:rPr>
              <a:t>*Bulim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852f74"/>
                </a:solidFill>
                <a:latin typeface="Trebuchet MS"/>
              </a:rPr>
              <a:t>*Síndrome de déficit de atención e hiperactivida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852f74"/>
                </a:solidFill>
                <a:latin typeface="Trebuchet MS"/>
              </a:rPr>
              <a:t>*Trastornos de la personalida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852f74"/>
                </a:solidFill>
                <a:latin typeface="Trebuchet MS"/>
              </a:rPr>
              <a:t>*Demenc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heel spokes="2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1 Título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gradFill rotWithShape="0">
            <a:gsLst>
              <a:gs pos="0">
                <a:srgbClr val="f8ebfb"/>
              </a:gs>
              <a:gs pos="100000">
                <a:srgbClr val="e6c6ef"/>
              </a:gs>
            </a:gsLst>
            <a:lin ang="5400000"/>
          </a:gradFill>
          <a:ln w="11520">
            <a:solidFill>
              <a:srgbClr val="ac66bb"/>
            </a:solidFill>
            <a:miter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l principio, las personas con estos trastornos usualmente no buscan tratamiento por su cuenta. Ellas tienden a buscar ayuda una vez que su comportamiento ha causado problemas graves en sus relaciones personales o en sus trabajos o cuando les diagnostican otro problema psiquiátrico, como un trastorno del estado anímico o drogadic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unque lleva tiempo tratar los trastornos de personalidad, hay indicios crecientes de que ciertas formas de psicoterapia pueden ayudar a muchas personas. En algunos casos, los medicamentos pueden ser un complemento útil para la terapi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4 Imagen" descr="psiquia_fig.jpg"/>
          <p:cNvPicPr/>
          <p:nvPr/>
        </p:nvPicPr>
        <p:blipFill>
          <a:blip r:embed="rId2"/>
          <a:stretch/>
        </p:blipFill>
        <p:spPr>
          <a:xfrm>
            <a:off x="7143840" y="0"/>
            <a:ext cx="1795320" cy="2265480"/>
          </a:xfrm>
          <a:prstGeom prst="rect">
            <a:avLst/>
          </a:prstGeom>
          <a:ln w="0">
            <a:noFill/>
          </a:ln>
        </p:spPr>
      </p:pic>
      <p:sp>
        <p:nvSpPr>
          <p:cNvPr id="250" name="5 CuadroTexto"/>
          <p:cNvSpPr/>
          <p:nvPr/>
        </p:nvSpPr>
        <p:spPr>
          <a:xfrm>
            <a:off x="5500800" y="571680"/>
            <a:ext cx="1500120" cy="64260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El grito de Munch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1 Título" descr=""/>
          <p:cNvPicPr/>
          <p:nvPr/>
        </p:nvPicPr>
        <p:blipFill>
          <a:blip r:embed="rId1"/>
          <a:stretch/>
        </p:blipFill>
        <p:spPr>
          <a:xfrm>
            <a:off x="4552920" y="-6480"/>
            <a:ext cx="4084560" cy="11401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5571720" y="1356840"/>
            <a:ext cx="3143160" cy="4071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s una pérdida de la función cerebral que ocurre con ciertas enfermedades y afecta la memoria, el pensamiento, el lenguaje, el juicio y el comportamiento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3" name="7 Imagen" descr="demenciasenil.gif"/>
          <p:cNvPicPr/>
          <p:nvPr/>
        </p:nvPicPr>
        <p:blipFill>
          <a:blip r:embed="rId2"/>
          <a:stretch/>
        </p:blipFill>
        <p:spPr>
          <a:xfrm rot="21348000">
            <a:off x="123480" y="1329840"/>
            <a:ext cx="5267160" cy="3562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Admin\Configuración local\Archivos temporales de Internet\Content.IE5\2OBVRK0W\MP900402619[1].jpg"/>
          <p:cNvPicPr/>
          <p:nvPr/>
        </p:nvPicPr>
        <p:blipFill>
          <a:blip r:embed="rId3"/>
          <a:stretch/>
        </p:blipFill>
        <p:spPr>
          <a:xfrm>
            <a:off x="3429000" y="5429160"/>
            <a:ext cx="1643040" cy="1314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1 Título" descr=""/>
          <p:cNvPicPr/>
          <p:nvPr/>
        </p:nvPicPr>
        <p:blipFill>
          <a:blip r:embed="rId1"/>
          <a:stretch/>
        </p:blipFill>
        <p:spPr>
          <a:xfrm>
            <a:off x="42840" y="317520"/>
            <a:ext cx="766296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os síntomas de demencia abarcan dificultad con muchas áreas de la función mental, entre ello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lenguaj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memori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percepció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comportamiento emocional o la personalida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s habilidades cognitivas (como el cálculo, pensamiento abstracto o la capacidad de discernimiento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demencia aparece primero generalmente como olvid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3 Imagen" descr="prevenir-demencia.jpg"/>
          <p:cNvPicPr/>
          <p:nvPr/>
        </p:nvPicPr>
        <p:blipFill>
          <a:blip r:embed="rId2"/>
          <a:stretch/>
        </p:blipFill>
        <p:spPr>
          <a:xfrm>
            <a:off x="6910560" y="4500720"/>
            <a:ext cx="2233440" cy="20001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1 Título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l tratamiento depende de la afección causante de la demencia. Algunas personas pueden requerir hospitalización por un corto tiemp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La suspensión o el cambio de medicamentos que empeoran la confusión puede mejorar la función cerebr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xisten cada vez más datos que confirman que algunos tipos de ejercicios mentales pueden ayudar a paliar la demenci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3 Imagen" descr="cientificos-acercan-cura-demencia-el-alzheime-L-1.jpeg"/>
          <p:cNvPicPr/>
          <p:nvPr/>
        </p:nvPicPr>
        <p:blipFill>
          <a:blip r:embed="rId2"/>
          <a:stretch/>
        </p:blipFill>
        <p:spPr>
          <a:xfrm>
            <a:off x="6647040" y="0"/>
            <a:ext cx="2496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1 Título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4930920" cy="14018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429000" y="2285640"/>
            <a:ext cx="5114880" cy="210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c7c7c7"/>
              </a:gs>
            </a:gsLst>
            <a:lin ang="5400000"/>
          </a:gradFill>
          <a:ln w="11520">
            <a:solidFill>
              <a:srgbClr val="0000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a2c64"/>
                </a:solidFill>
                <a:latin typeface="Trebuchet MS"/>
              </a:rPr>
              <a:t>-Medline plus ( PÁGINA PARA INFORMACIÓN SOBRE LA SALU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a2c64"/>
                </a:solidFill>
                <a:latin typeface="Trebuchet MS"/>
              </a:rPr>
              <a:t>-Libro de texto de CMC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1 Título" descr=""/>
          <p:cNvPicPr/>
          <p:nvPr/>
        </p:nvPicPr>
        <p:blipFill>
          <a:blip r:embed="rId1"/>
          <a:stretch/>
        </p:blipFill>
        <p:spPr>
          <a:xfrm>
            <a:off x="4913280" y="317520"/>
            <a:ext cx="3809880" cy="10476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285880" y="1857240"/>
            <a:ext cx="3643560" cy="442944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10f17"/>
                </a:solidFill>
                <a:latin typeface="Trebuchet MS"/>
              </a:rPr>
              <a:t>¿Qué es? </a:t>
            </a:r>
            <a:r>
              <a:rPr b="0" lang="es-ES" sz="1600" spc="-1" strike="noStrike">
                <a:solidFill>
                  <a:srgbClr val="ffffff"/>
                </a:solidFill>
                <a:latin typeface="Trebuchet MS"/>
              </a:rPr>
              <a:t>Las personas que padecen bulimia son incapaces de dominar los impulsos que les llevan a comer, pero el sentimiento de culpa y vergüenza tras ingerir muchos alimentos les lleva a una purga (vómitos o empleo de laxantes o diuréticos ), regímenes rigurosos o ejercicio excesivo para contrarrestar los efectos de las abundantes comidas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rebuchet MS"/>
              </a:rPr>
              <a:t>Los bulímicos tienen cerca de 15 episodios de atracones y vómitos por semana y, en general, su peso es normal, por lo que resulta difícil detectar la enfermedad. En un solo atracón pueden llegar a consumir de 10.000 a 40.000 calorías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5" name="4 Marcador de posición de imagen" descr="la_bulimia_1.jpg"/>
          <p:cNvPicPr/>
          <p:nvPr/>
        </p:nvPicPr>
        <p:blipFill>
          <a:blip r:embed="rId2"/>
          <a:stretch/>
        </p:blipFill>
        <p:spPr>
          <a:xfrm>
            <a:off x="-66600" y="-133200"/>
            <a:ext cx="5108400" cy="5106960"/>
          </a:xfrm>
          <a:prstGeom prst="rect">
            <a:avLst/>
          </a:prstGeom>
          <a:ln w="0">
            <a:noFill/>
          </a:ln>
        </p:spPr>
      </p:pic>
      <p:sp>
        <p:nvSpPr>
          <p:cNvPr id="226" name="5 CuadroTexto"/>
          <p:cNvSpPr/>
          <p:nvPr/>
        </p:nvSpPr>
        <p:spPr>
          <a:xfrm>
            <a:off x="214200" y="4357800"/>
            <a:ext cx="4857840" cy="201420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a2c64"/>
                </a:solidFill>
                <a:latin typeface="Trebuchet MS"/>
              </a:rPr>
              <a:t>Esta enfermedad afecta a los jóvenes y se manifiesta con más frecuencia en las mujeres. La media de edad de inicio se sitúa en los 19 años y las personas que han sufrido  anorexia o han realizado dietas sin control tienen un mayor riesgo de sufrir esta patología.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1 Título" descr=""/>
          <p:cNvPicPr/>
          <p:nvPr/>
        </p:nvPicPr>
        <p:blipFill>
          <a:blip r:embed="rId1"/>
          <a:stretch/>
        </p:blipFill>
        <p:spPr>
          <a:xfrm>
            <a:off x="133200" y="317520"/>
            <a:ext cx="78152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a8d3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Atracones o sobreingesta de alimentos: El enfermo come una gran cantidad de alimentos en un espacio de tiempo muy corto. No tiene control sobre la ingesta y es tal la ansiedad que cree que no puede parar de comer. 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Para prevenir el aumento de peso y compensar el atracón o el exceso de las comidas se provoca vómitos, utiliza laxantes, diuréticos, fármacos, o recurre a otros medios que le permitan controlar el peso, como la practica abusiva de actividades deportivas. 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os ciclos de atracones y vómitos se manifiestan un mínimo de dos veces por semana y puede llegar hasta 15 veces. 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a autoestima del enfermo es baja y la identifica con su cuerpo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1 Título" descr=""/>
          <p:cNvPicPr/>
          <p:nvPr/>
        </p:nvPicPr>
        <p:blipFill>
          <a:blip r:embed="rId1"/>
          <a:stretch/>
        </p:blipFill>
        <p:spPr>
          <a:xfrm>
            <a:off x="-109440" y="-66600"/>
            <a:ext cx="7815240" cy="15350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gradFill rotWithShape="0">
            <a:gsLst>
              <a:gs pos="0">
                <a:srgbClr val="fbb494"/>
              </a:gs>
              <a:gs pos="100000">
                <a:srgbClr val="ff9654"/>
              </a:gs>
            </a:gsLst>
            <a:lin ang="5400000"/>
          </a:gradFill>
          <a:ln w="11520">
            <a:solidFill>
              <a:srgbClr val="fa8d3d"/>
            </a:solidFill>
            <a:miter/>
          </a:ln>
          <a:effectLst>
            <a:outerShdw dist="25560" dir="5400000" blurRad="0" rotWithShape="0">
              <a:srgbClr val="985421">
                <a:alpha val="83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91f4d"/>
                </a:solidFill>
                <a:latin typeface="Trebuchet MS"/>
              </a:rPr>
              <a:t>Las dos aproximaciones al tratamiento son la psicoterapia y los fármacos. Es mejor que la psicoterapia la realice un terapeuta con experiencia en alteraciones del apetito, pudiendo resultar muy eficaz. Un fármaco antidepresivo a menudo puede ayudar a controlar la bulimia nerviosa, incluso cuando la persona no parece deprimida, pero el trastorno puede reaparecer al interrumpirse la administración del fármac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1 Título" descr=""/>
          <p:cNvPicPr/>
          <p:nvPr/>
        </p:nvPicPr>
        <p:blipFill>
          <a:blip r:embed="rId1"/>
          <a:stretch/>
        </p:blipFill>
        <p:spPr>
          <a:xfrm>
            <a:off x="4084560" y="334800"/>
            <a:ext cx="5291280" cy="17686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214960" y="2286000"/>
            <a:ext cx="3929040" cy="392904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¿Qué es? Es un síndrome conductual de causa poco clara, en la que probablemente intervienen factores genéticos y ambientales y en el que existe una alteración en el sistema nervioso central, que se manifiesta mediante un aumento de la actividad, impulsividad y falta de atención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El Trastorno por Déficit de Atención e Hiperactividad (TDAH) es una de las causas más frecuentes de fracaso escolar y de problemas sociales en la edad infantil. El síndrome aparece en la infancia y puede persistir y manifestarse en al edad adulta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3" name="4 Marcador de posición de imagen" descr="TDAH_03.jpg"/>
          <p:cNvPicPr/>
          <p:nvPr/>
        </p:nvPicPr>
        <p:blipFill>
          <a:blip r:embed="rId2"/>
          <a:stretch/>
        </p:blipFill>
        <p:spPr>
          <a:xfrm>
            <a:off x="304920" y="1847880"/>
            <a:ext cx="3968640" cy="3913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 Título" descr=""/>
          <p:cNvPicPr/>
          <p:nvPr/>
        </p:nvPicPr>
        <p:blipFill>
          <a:blip r:embed="rId1"/>
          <a:stretch/>
        </p:blipFill>
        <p:spPr>
          <a:xfrm>
            <a:off x="85680" y="225360"/>
            <a:ext cx="6278760" cy="1182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57120" y="1500120"/>
            <a:ext cx="7338960" cy="5005440"/>
          </a:xfrm>
          <a:prstGeom prst="rect">
            <a:avLst/>
          </a:prstGeom>
          <a:gradFill rotWithShape="0">
            <a:gsLst>
              <a:gs pos="0">
                <a:srgbClr val="ffece2"/>
              </a:gs>
              <a:gs pos="100000">
                <a:srgbClr val="ffcdb3"/>
              </a:gs>
            </a:gsLst>
            <a:lin ang="5400000"/>
          </a:gradFill>
          <a:ln w="11520">
            <a:solidFill>
              <a:srgbClr val="fa8d3d"/>
            </a:solidFill>
            <a:miter/>
          </a:ln>
          <a:effectLst>
            <a:outerShdw dist="24840" dir="5400000" blurRad="0" rotWithShape="0">
              <a:srgbClr val="ae4b03">
                <a:alpha val="3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a2c64"/>
                </a:solidFill>
                <a:latin typeface="Trebuchet MS"/>
              </a:rPr>
              <a:t>Los niños son muy inquietos e impulsivos, y tienen problemas para prestar atención y para concentrarse. A pesar de intentarlo, son incapaces de escuchar correctamente, de organizar sus tareas, de seguir instrucciones complejas, de trabajar o jugar en equipo. El actuar sin pensar provoca problemas con padres, amigos y profesores. Suelen ser niños inquietos, siempre en movimiento, incapaces de permanecer sentados mucho tiempo o con una constante inquietud (que se ve en tamborileo de dedos, movimiento constante de los pies o las piernas).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C:\Documents and Settings\Admin\Configuración local\Archivos temporales de Internet\Content.IE5\6WHDKW3J\MM900283651[1].gif"/>
          <p:cNvPicPr/>
          <p:nvPr/>
        </p:nvPicPr>
        <p:blipFill>
          <a:blip r:embed="rId2"/>
          <a:stretch/>
        </p:blipFill>
        <p:spPr>
          <a:xfrm>
            <a:off x="7715160" y="285840"/>
            <a:ext cx="1130400" cy="1603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1 Título" descr=""/>
          <p:cNvPicPr/>
          <p:nvPr/>
        </p:nvPicPr>
        <p:blipFill>
          <a:blip r:embed="rId1"/>
          <a:stretch/>
        </p:blipFill>
        <p:spPr>
          <a:xfrm>
            <a:off x="42840" y="225360"/>
            <a:ext cx="6321600" cy="1182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gradFill rotWithShape="0">
            <a:gsLst>
              <a:gs pos="0">
                <a:srgbClr val="fce8ed"/>
              </a:gs>
              <a:gs pos="100000">
                <a:srgbClr val="f0bec9"/>
              </a:gs>
            </a:gsLst>
            <a:lin ang="5400000"/>
          </a:gradFill>
          <a:ln w="11520">
            <a:solidFill>
              <a:srgbClr val="b83d68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Trebuchet MS"/>
              </a:rPr>
              <a:t>Información exhaustiva a padres y profesor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Trebuchet MS"/>
              </a:rPr>
              <a:t>Tratamiento farmacológico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Trebuchet MS"/>
              </a:rPr>
              <a:t>Tratamiento psicopedagógico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C:\Documents and Settings\Admin\Configuración local\Archivos temporales de Internet\Content.IE5\2OBVRK0W\MP900422829[1].jpg"/>
          <p:cNvPicPr/>
          <p:nvPr/>
        </p:nvPicPr>
        <p:blipFill>
          <a:blip r:embed="rId2"/>
          <a:stretch/>
        </p:blipFill>
        <p:spPr>
          <a:xfrm>
            <a:off x="6215040" y="278604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Documents and Settings\Admin\Configuración local\Archivos temporales de Internet\Content.IE5\R4F1DS82\MP900430840[1].jpg"/>
          <p:cNvPicPr/>
          <p:nvPr/>
        </p:nvPicPr>
        <p:blipFill>
          <a:blip r:embed="rId3"/>
          <a:stretch/>
        </p:blipFill>
        <p:spPr>
          <a:xfrm>
            <a:off x="5786280" y="214200"/>
            <a:ext cx="2332080" cy="1711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1 Título" descr=""/>
          <p:cNvPicPr/>
          <p:nvPr/>
        </p:nvPicPr>
        <p:blipFill>
          <a:blip r:embed="rId1"/>
          <a:stretch/>
        </p:blipFill>
        <p:spPr>
          <a:xfrm>
            <a:off x="4937040" y="353880"/>
            <a:ext cx="3944880" cy="14256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286240" y="2143080"/>
            <a:ext cx="3532320" cy="30607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8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Los trastornos de la personalidad se definen como el conjunto de trastornos en los que las dimensiones emocionales, afectivas motivacionales y de relación social se encuentran perturbadas o presentan anormalidade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3" name="4 Marcador de posición de imagen" descr="trastorno-de-la-personalidad-limite.jpg"/>
          <p:cNvPicPr/>
          <p:nvPr/>
        </p:nvPicPr>
        <p:blipFill>
          <a:blip r:embed="rId2"/>
          <a:stretch/>
        </p:blipFill>
        <p:spPr>
          <a:xfrm>
            <a:off x="225360" y="689040"/>
            <a:ext cx="51087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1 Título" descr=""/>
          <p:cNvPicPr/>
          <p:nvPr/>
        </p:nvPicPr>
        <p:blipFill>
          <a:blip r:embed="rId1"/>
          <a:stretch/>
        </p:blipFill>
        <p:spPr>
          <a:xfrm>
            <a:off x="42840" y="317520"/>
            <a:ext cx="766296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gradFill rotWithShape="0">
            <a:gsLst>
              <a:gs pos="0">
                <a:srgbClr val="ffece2"/>
              </a:gs>
              <a:gs pos="100000">
                <a:srgbClr val="ffcdb3"/>
              </a:gs>
            </a:gsLst>
            <a:lin ang="5400000"/>
          </a:gradFill>
          <a:ln w="11520">
            <a:solidFill>
              <a:srgbClr val="fa8d3d"/>
            </a:solidFill>
            <a:miter/>
          </a:ln>
          <a:effectLst>
            <a:outerShdw dist="24840" dir="5400000" blurRad="0" rotWithShape="0">
              <a:srgbClr val="ae4b03">
                <a:alpha val="38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Los síntomas varían ampliamente dependiendo del tipo de trastorno de la personalida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n general, los trastornos de la personalidad involucran sentimientos, pensamientos y comportamientos que no se adaptan a un amplio rango de escenario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stos patrones generalmente comienzan en la adolescencia y pueden llevar a problemas en situaciones laborales y social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stas afecciones varían de leves a grav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3 Imagen" descr="discutir252520habito.jpg"/>
          <p:cNvPicPr/>
          <p:nvPr/>
        </p:nvPicPr>
        <p:blipFill>
          <a:blip r:embed="rId2"/>
          <a:stretch/>
        </p:blipFill>
        <p:spPr>
          <a:xfrm>
            <a:off x="6072120" y="0"/>
            <a:ext cx="2079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13:08:22Z</dcterms:created>
  <dc:creator>Admin</dc:creator>
  <dc:description/>
  <dc:language>en-US</dc:language>
  <cp:lastModifiedBy>Admin</cp:lastModifiedBy>
  <dcterms:modified xsi:type="dcterms:W3CDTF">2012-04-22T15:47:28Z</dcterms:modified>
  <cp:revision>18</cp:revision>
  <dc:subject/>
  <dc:title>Diapositiva 1</dc:title>
</cp:coreProperties>
</file>