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0C430E-CB54-4EB3-936A-439D640080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2C8599-AD7D-4FA7-BC4C-858CFB1071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1E9CC5-9B95-490A-8913-9512D27409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D2127A-D02E-4A65-A120-8C970E4AC7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B6748C-CC06-4F8E-A4FA-D1E3D415EC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8B5C15-E4B1-410E-ADD3-0670A57F55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9F4B7D-4D4D-4673-A4C0-6536AD1525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B6B643-FED5-456B-827C-1179345827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11CB8B-4098-4B3F-98C0-47B06C9D28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5D431C-9421-4242-A082-228E46E7CE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8E6D09-D0E0-4370-A325-3686FAF7DD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8D90FD-8F11-4000-AA3E-4E002F584F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68D2AD-C9B6-49D6-9EBF-C7CC3CEF6C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1AF09F-9A15-492D-9A92-AA4A50CAB9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5358AE-6B84-4C50-8F98-1AE56808AA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C389BB-56C4-4E20-86ED-702196CCD5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6F2260-AA89-4A4C-A286-F5A22C4477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F89239A0-A64F-47EE-88FD-F4534443836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2528D7C-403E-4D5D-B737-FBED10E684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83FFEAE-D2F6-45D2-9634-105E2DAAA9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310F2A5-6AC7-4A53-822C-43E06E8215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05756B5-5617-4698-AF2D-C953C171E9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5915B2-B7F7-4E83-8D78-8F4834BDBF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18E4C1B-30CE-4BB2-9B00-9FC6B3C58C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8843DED-A6FF-498B-8B84-9ACC369F59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18B1D38-1396-41C7-9B7E-665AB0ABC2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160207E-5FDD-4B5B-AA0C-9F8AE1AD8B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E04E9FE-7655-4E57-86C4-BC0D715849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1CD20272-B9FF-413F-B3B2-37275472AD9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2CB69EF7-A55D-4D7D-9D97-DF35C68A051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F92A960-8310-4480-9C9D-C5526BBFB73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659723-963A-4CF6-B70A-4B1A28468E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207285-CEDB-4735-8D05-1C35A2AEFF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2C7891-C731-40B0-8089-36B8286CDD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EC5CA3-0887-440F-82EF-DE69682E26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1A8F44F-2ABD-4677-97D1-DBE30773B3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FA98AC-9CC5-4780-B823-996DF238E3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4E6AE6-0D74-4FB1-BD66-DC722F5994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8F5B59-1684-4BEC-82D4-28CD4304A7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649D32-5B78-43D2-AFB6-942C4AC73F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2C3D07-945A-4692-83E5-21B2AEDB8E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935B5FE-392F-4B63-AB6F-E65095043EA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3A18CDC-F247-4BFB-9432-5B2F4F6B09F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C80AC327-2677-4463-AF38-0CF70659F96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EB8D1E-5291-4AC8-B0C2-B9F595EE47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D5B0682-9634-4A06-93DE-1A38B9266A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03BED19-05AF-4553-8F6D-D3C55D11E8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6039131-8DE1-4003-9B85-2A0B31A1A1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BE68FEE-6D8F-4819-8D72-995BD004D4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7992F27-A217-4D6A-86E5-6DF5F3CFA4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2E23482-9D96-4E82-9FF7-B2A894EF39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A087022-87B5-401D-BE79-CD19E0E977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C42322B-2653-4600-B0BF-A052E45BB4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902F820-D601-4585-B905-8F189E4223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744BD0C8-3627-4E3E-B2AE-BD415C5C083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CEC7B3-C70D-4E34-A230-C12BEE6EE3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BE235599-5B48-4D9E-884B-67DC706C7D3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2997E3AC-9CE7-474F-8886-01AB170CF34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3278EA91-02F8-4AED-9725-8FBDC2B9B24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DC7CB85F-0D09-4CFD-A467-81C5B318432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74119FB9-3DCD-46C9-ADCB-1F6213ACD2C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9EC11580-759A-4454-BDE3-B9E51204688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E5E22569-DE35-4AE7-98F7-97260DAEE20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1B86600-7AB4-48EE-8626-768904A69C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EBBEAE2-0C16-49EB-9273-2356524E97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61414F9-6E08-4B67-9260-A9D213C014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93E2FF-32C1-4DF2-A41C-47E75E86D4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67F90032-85EA-481E-9482-072A7787353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B2611405-7817-42BD-AA1D-51799A04336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7FC16284-DDE7-46CF-94DA-DD4AF9BC4E4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5BAC6E1A-62A9-4632-8C7D-71B1DC149EB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0826206E-2A10-47A0-BC9F-F5BA6DA058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A9BDEAA-E9F1-405D-ACF4-3A322E634F0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051432FD-BE77-40E8-AF92-4D178DDD092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D4A78ECC-AAC0-4488-BA4D-947F8378464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F51443BB-74DB-4341-B7FC-73552051068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A0BD6F6-71E3-4A15-87CD-FB3BF75307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8E215-9053-4C9B-A06B-E305D2BE16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C878C70-0592-4A15-B91C-829F9DCBCA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8E9411D-3EBE-47A9-B961-006FB57374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38BD4513-4F3D-4CBC-93D8-0E86C60C8B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CAA294A9-144F-4382-B771-09624DB042C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4064D9BC-31EB-4B8B-B4EA-19FED1DB041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B3CCA-B62F-49F2-9AA9-AF19ADE7A9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6"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7"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8"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9"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C54DD-E091-469B-BFDA-2E9A9A2AF617}"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4 Rectángulo"/>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8" name="16 Rectángulo"/>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9" name="17 Rectángulo"/>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0" name="18 Rectángulo"/>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1" name="19 Conector recto"/>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2" name="20 Conector recto"/>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3" name="23 Conector recto"/>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4" name="24 Conector recto"/>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5" name="25 Conector recto"/>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6" name="26 Conector recto"/>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7" name="27 Rectángulo"/>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8" name="28 Elipse"/>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9" name="29 Elipse"/>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0" name="30 Elipse"/>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1" name="31 Elipse"/>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2" name="32 Elipse"/>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538C4-0296-45B1-AB77-D062C3B41853}"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5"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6"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7"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8"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9"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3504E-5619-455D-AAF4-A7D2ACB9F8FB}"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14 Rectángulo"/>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2" name="16 Rectángulo"/>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3" name="17 Rectángulo"/>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4" name="18 Rectángulo"/>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5" name="19 Conector recto"/>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6" name="20 Conector recto"/>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7" name="23 Conector recto"/>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8" name="24 Conector recto"/>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9" name="25 Conector recto"/>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0" name="26 Rectángulo"/>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1" name="27 Elipse"/>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2" name="28 Elipse"/>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3" name="29 Elipse"/>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4" name="30 Elipse"/>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5" name="31 Elipse"/>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6" name="32 Conector recto"/>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3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39d"/>
                </a:solidFill>
                <a:latin typeface="Times New Roman"/>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D611E-F124-4565-922C-A282A93C958F}"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09"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0"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1"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2"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3"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BC3D6-4284-4A83-B800-DCCDBF7F8026}"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14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6" name="16 Conector recto"/>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7" name="17 Conector recto"/>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8" name="1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9" name="1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0" name="2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61" name="23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28DA4-10FE-49D3-AF9D-D750C5084CBF}"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14 Conector recto"/>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4" name="16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5" name="17 Conector recto"/>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6" name="18 Rectángulo"/>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7" name="19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8" name="20 Conector recto"/>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9" name="23 Conector recto"/>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8921C-2854-40C6-91F7-F93D219F0A0C}"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hyperlink" Target="http://www.tratamientoansiedad.com/sintomadeansiedad.html" TargetMode="External"/><Relationship Id="rId2" Type="http://schemas.openxmlformats.org/officeDocument/2006/relationships/hyperlink" Target="http://www.tratamientoansiedad.com/trastornos-de-ansiedad/agorafobia.html" TargetMode="External"/><Relationship Id="rId3" Type="http://schemas.openxmlformats.org/officeDocument/2006/relationships/hyperlink" Target="http://www.tratamientoansiedad.com/trastornos-de-ansiedad/fobia-social.html" TargetMode="External"/><Relationship Id="rId4" Type="http://schemas.openxmlformats.org/officeDocument/2006/relationships/hyperlink" Target="http://www.tratamientoansiedad.com/trastornos-de-ansiedad/fobias-especificas.html" TargetMode="External"/><Relationship Id="rId5" Type="http://schemas.openxmlformats.org/officeDocument/2006/relationships/hyperlink" Target="http://www.tratamientoansiedad.com/trastornos-de-ansiedad/trastorno-panico.html" TargetMode="External"/><Relationship Id="rId6" Type="http://schemas.openxmlformats.org/officeDocument/2006/relationships/hyperlink" Target="http://www.tratamientoansiedad.com/trastornos-de-ansiedad/trastorno-panico.html" TargetMode="External"/><Relationship Id="rId7" Type="http://schemas.openxmlformats.org/officeDocument/2006/relationships/hyperlink" Target="http://www.tratamientoansiedad.com/trastornos-de-ansiedad/trastorno-panico.html" TargetMode="External"/><Relationship Id="rId8" Type="http://schemas.openxmlformats.org/officeDocument/2006/relationships/hyperlink" Target="http://www.tratamientoansiedad.com/trastornos-de-ansiedad/estres-agudo.html" TargetMode="External"/><Relationship Id="rId9" Type="http://schemas.openxmlformats.org/officeDocument/2006/relationships/hyperlink" Target="http://www.tratamientoansiedad.com/trastornos-de-ansiedad/estres-agudo.html" TargetMode="External"/><Relationship Id="rId10" Type="http://schemas.openxmlformats.org/officeDocument/2006/relationships/hyperlink" Target="http://www.tratamientoansiedad.com/trastornos-de-ansiedad/estres-agudo.html" TargetMode="External"/><Relationship Id="rId11" Type="http://schemas.openxmlformats.org/officeDocument/2006/relationships/hyperlink" Target="http://www.tratamientoansiedad.com/trastornos-de-ansiedad/trastorno-obsesivo-compulsivo.html" TargetMode="External"/><Relationship Id="rId12" Type="http://schemas.openxmlformats.org/officeDocument/2006/relationships/hyperlink" Target="http://www.tratamientoansiedad.com/trastornos-de-ansiedad/estres-postraumatico.html" TargetMode="External"/><Relationship Id="rId13" Type="http://schemas.openxmlformats.org/officeDocument/2006/relationships/hyperlink" Target="http://www.tratamientoansiedad.com/trastornos-de-ansiedad/estres-postraumatico.html" TargetMode="External"/><Relationship Id="rId14" Type="http://schemas.openxmlformats.org/officeDocument/2006/relationships/hyperlink" Target="http://www.tratamientoansiedad.com/trastornos-de-ansiedad/estres-postraumatico.html" TargetMode="External"/><Relationship Id="rId15" Type="http://schemas.openxmlformats.org/officeDocument/2006/relationships/hyperlink" Target="http://www.tratamientoansiedad.com/trastornos-de-ansiedad/ansiedad-generalizada.html" TargetMode="External"/><Relationship Id="rId16"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575f6d"/>
                </a:solidFill>
                <a:latin typeface="Century Schoolbook"/>
              </a:rPr>
              <a:t>LAS ENFERMEDADES MENTALES</a:t>
            </a:r>
            <a:endParaRPr b="0" lang="en-US" sz="3000" spc="-1" strike="noStrike">
              <a:solidFill>
                <a:srgbClr val="575f6d"/>
              </a:solidFill>
              <a:latin typeface="Century Schoolbook"/>
            </a:endParaRPr>
          </a:p>
        </p:txBody>
      </p:sp>
      <p:sp>
        <p:nvSpPr>
          <p:cNvPr id="352" name="PlaceHolder 2"/>
          <p:cNvSpPr>
            <a:spLocks noGrp="1"/>
          </p:cNvSpPr>
          <p:nvPr>
            <p:ph type="subTitle"/>
          </p:nvPr>
        </p:nvSpPr>
        <p:spPr>
          <a:xfrm>
            <a:off x="2285640" y="5003640"/>
            <a:ext cx="6172200" cy="13716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575f6d"/>
                </a:solidFill>
                <a:latin typeface="Century Schoolbook"/>
              </a:rPr>
              <a:t> </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 </a:t>
            </a:r>
            <a:endParaRPr b="0" lang="en-US" sz="3000" spc="-1" strike="noStrike">
              <a:solidFill>
                <a:srgbClr val="575f6d"/>
              </a:solidFill>
              <a:latin typeface="Century Schoolbook"/>
            </a:endParaRPr>
          </a:p>
        </p:txBody>
      </p:sp>
      <p:pic>
        <p:nvPicPr>
          <p:cNvPr id="370" name="Picture 2" descr="C:\Users\Usuario\Documents\no sé que es\Desktop\los-ataques-de-ansiedad-y-yo2b-8403538.jpg"/>
          <p:cNvPicPr/>
          <p:nvPr/>
        </p:nvPicPr>
        <p:blipFill>
          <a:blip r:embed="rId1"/>
          <a:stretch/>
        </p:blipFill>
        <p:spPr>
          <a:xfrm>
            <a:off x="611280" y="765000"/>
            <a:ext cx="7094520" cy="4718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TRATAMIENTO</a:t>
            </a:r>
            <a:endParaRPr b="0" lang="en-US" sz="3000" spc="-1" strike="noStrike">
              <a:solidFill>
                <a:srgbClr val="575f6d"/>
              </a:solidFill>
              <a:latin typeface="Century Schoolbook"/>
            </a:endParaRPr>
          </a:p>
        </p:txBody>
      </p:sp>
      <p:sp>
        <p:nvSpPr>
          <p:cNvPr id="372"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Fármacos ansiolítico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Psicoterapia Cognitivo-Conductal</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Reducción de </a:t>
            </a:r>
            <a:r>
              <a:rPr b="1" lang="es-ES" sz="2400" spc="-1" strike="noStrike">
                <a:solidFill>
                  <a:srgbClr val="000000"/>
                </a:solidFill>
                <a:latin typeface="Century Schoolbook"/>
              </a:rPr>
              <a:t>estrés</a:t>
            </a:r>
            <a:r>
              <a:rPr b="0" lang="es-ES" sz="2400" spc="-1" strike="noStrike">
                <a:solidFill>
                  <a:srgbClr val="000000"/>
                </a:solidFill>
                <a:latin typeface="Century Schoolbook"/>
              </a:rPr>
              <a:t>, lo que puede incluir técnicas de relajación y respiración, mejor manejo del tiempo, ejercicio físico, yoga, etc.</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Cambios en la alimentación; por ejemplo, eliminación </a:t>
            </a:r>
            <a:r>
              <a:rPr b="0" i="1" lang="es-ES" sz="2400" spc="-1" strike="noStrike">
                <a:solidFill>
                  <a:srgbClr val="000000"/>
                </a:solidFill>
                <a:latin typeface="Century Schoolbook"/>
              </a:rPr>
              <a:t>gradual</a:t>
            </a:r>
            <a:r>
              <a:rPr b="0" lang="es-ES" sz="2400" spc="-1" strike="noStrike">
                <a:solidFill>
                  <a:srgbClr val="000000"/>
                </a:solidFill>
                <a:latin typeface="Century Schoolbook"/>
              </a:rPr>
              <a:t> del café, estimulantes, chocolate, azúcar, tabaco, alcohol, refrescos que contengan cafeina y analgesicos o drogas que contengan esta. Algunos pacientes informan reducciones considerables en su </a:t>
            </a:r>
            <a:r>
              <a:rPr b="1" lang="es-ES" sz="2400" spc="-1" strike="noStrike">
                <a:solidFill>
                  <a:srgbClr val="000000"/>
                </a:solidFill>
                <a:latin typeface="Century Schoolbook"/>
              </a:rPr>
              <a:t>ansiedad</a:t>
            </a:r>
            <a:r>
              <a:rPr b="0" lang="es-ES" sz="2400" spc="-1" strike="noStrike">
                <a:solidFill>
                  <a:srgbClr val="000000"/>
                </a:solidFill>
                <a:latin typeface="Century Schoolbook"/>
              </a:rPr>
              <a:t>sólo tomando estas medida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PREVENCIÓN</a:t>
            </a:r>
            <a:endParaRPr b="0" lang="en-US" sz="3000" spc="-1" strike="noStrike">
              <a:solidFill>
                <a:srgbClr val="575f6d"/>
              </a:solidFill>
              <a:latin typeface="Century Schoolbook"/>
            </a:endParaRPr>
          </a:p>
        </p:txBody>
      </p:sp>
      <p:sp>
        <p:nvSpPr>
          <p:cNvPr id="374"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La dieta: alimentarse bien, que comer sea un momento de descanso y familiar, comer sano y no consumir alcohol.</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Descanso: dormir lo suficiente (8 horas), tomar vacaciones y fines de semana como ocio y descanso, fomentar las relaciones sociales.</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Ejercicio físico:La práctica moderada de algún deporte o ejercicio físico ayuda a relajarnos</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Organización:</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La organización del tiempo y de nuestras actividades</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Saber seleccionar actividades cuando no podemos hacer todo</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 </a:t>
            </a:r>
            <a:endParaRPr b="0" lang="en-US" sz="3000" spc="-1" strike="noStrike">
              <a:solidFill>
                <a:srgbClr val="575f6d"/>
              </a:solidFill>
              <a:latin typeface="Century Schoolbook"/>
            </a:endParaRPr>
          </a:p>
        </p:txBody>
      </p:sp>
      <p:sp>
        <p:nvSpPr>
          <p:cNvPr id="376"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Solución de problemas y toma de decisiones: No dejar pasar los problemas: afrontarlos de una manera más activa o más pasiva, pero decidiendo qué es lo mejor en cada caso.</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No analizar continuamente el problema o las alternativas: esto produce ansiedad</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Si estamos nerviosos: entender que es natural, la ansiedad es tan natural como el miedo, la alegría o el enfado, y no preocuparnos aún más porque estamos activados o nerviosos</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Es bueno querernos y tratarnos bien</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Mejorar las relaciones con los demás (pareja, amigos, compañeros, familia, etc.)</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DEPRESIÓN</a:t>
            </a:r>
            <a:endParaRPr b="0" lang="en-US" sz="3000" spc="-1" strike="noStrike">
              <a:solidFill>
                <a:srgbClr val="575f6d"/>
              </a:solidFill>
              <a:latin typeface="Century Schoolbook"/>
            </a:endParaRPr>
          </a:p>
        </p:txBody>
      </p:sp>
      <p:sp>
        <p:nvSpPr>
          <p:cNvPr id="378"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Schoolbook"/>
              </a:rPr>
              <a:t>Ocasionalmente, todos nos sentimos melancólicos o tristes, pero estos sentimientos, por lo general, son pasajeros y desaparecen en unos días. Cuando una persona tiene un trastorno depresivo, este interfiere con la vida diaria y el desempeño normal y causa dolor tanto para quien padece el trastorno como para quienes se preocupan por él o ella. La depresión es una enfermedad común pero grave y la mayor parte de quienes la padecen necesitan tratamiento para mejorar.</a:t>
            </a:r>
            <a:endParaRPr b="0" lang="en-US" sz="20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Schoolbook"/>
              </a:rPr>
              <a:t>Muchas personas con una enfermedad depresiva nunca buscan tratamiento. Pero la gran mayoría, incluso aquellas con los casos más graves de depresión, pueden mejorar con tratamiento. Intensivas investigaciones de la enfermedad han resultado en el desarrollo de medicamentos, psicoterapias, y otros métodos para tratar a las personas con este trastorno incapacitante.</a:t>
            </a:r>
            <a:endParaRPr b="0" lang="en-US" sz="20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 </a:t>
            </a:r>
            <a:endParaRPr b="0" lang="en-US" sz="3000" spc="-1" strike="noStrike">
              <a:solidFill>
                <a:srgbClr val="575f6d"/>
              </a:solidFill>
              <a:latin typeface="Century Schoolbook"/>
            </a:endParaRPr>
          </a:p>
        </p:txBody>
      </p:sp>
      <p:sp>
        <p:nvSpPr>
          <p:cNvPr id="380"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Century Schoolbook"/>
              </a:rPr>
              <a:t>Síntomas</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entury Schoolbook"/>
              </a:rPr>
              <a:t>Sentimientos persistentes de tristeza, ansiedad, o vacío</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entury Schoolbook"/>
              </a:rPr>
              <a:t>Sentimientos de desesperanza y/o pesimismo</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entury Schoolbook"/>
              </a:rPr>
              <a:t>Sentimientos de culpa, inutilidad, y/o impotencia</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entury Schoolbook"/>
              </a:rPr>
              <a:t>Irritabilidad, inquietud</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entury Schoolbook"/>
              </a:rPr>
              <a:t>Pérdida de interés en las actividades o pasatiempos que antes disfrutaba, incluso las relaciones sexuales</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entury Schoolbook"/>
              </a:rPr>
              <a:t>Fatiga y falta de energía</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entury Schoolbook"/>
              </a:rPr>
              <a:t>Dificultad para concentrarse, recordar detalles, y para tomar decisiones</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entury Schoolbook"/>
              </a:rPr>
              <a:t>Insomnio, despertar muy temprano, o dormir demasiado</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entury Schoolbook"/>
              </a:rPr>
              <a:t>Comer excesivamente o pérder el apetito</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entury Schoolbook"/>
              </a:rPr>
              <a:t>Pensamientos suicidas o intentos de suicidio</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entury Schoolbook"/>
              </a:rPr>
              <a:t>Dolores y malestares persistentes, dolores de cabeza, cólicos, o problemas digestivos que no se alivian incluso con tratamiento</a:t>
            </a:r>
            <a:endParaRPr b="0" lang="en-US" sz="1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0" lang="es-ES" sz="1700" spc="-1" strike="noStrike">
                <a:solidFill>
                  <a:srgbClr val="000000"/>
                </a:solidFill>
                <a:latin typeface="Century Schoolbook"/>
              </a:rPr>
              <a:t> </a:t>
            </a:r>
            <a:endParaRPr b="0" lang="en-US" sz="17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 </a:t>
            </a:r>
            <a:endParaRPr b="0" lang="en-US" sz="3000" spc="-1" strike="noStrike">
              <a:solidFill>
                <a:srgbClr val="575f6d"/>
              </a:solidFill>
              <a:latin typeface="Century Schoolbook"/>
            </a:endParaRPr>
          </a:p>
        </p:txBody>
      </p:sp>
      <p:sp>
        <p:nvSpPr>
          <p:cNvPr id="382"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No existe una causa única conocida de la depresión. Más bien, esta parece ser el resultado de una combinación de factores genéticos, bioquímicos, y psicológicos.</a:t>
            </a:r>
            <a:endParaRPr b="0" lang="en-US" sz="2400" spc="-1" strike="noStrike">
              <a:solidFill>
                <a:srgbClr val="000000"/>
              </a:solidFill>
              <a:latin typeface="Century Schoolbook"/>
            </a:endParaRPr>
          </a:p>
        </p:txBody>
      </p:sp>
      <p:pic>
        <p:nvPicPr>
          <p:cNvPr id="383" name="Picture 2" descr="C:\Users\Usuario\Documents\no sé que es\Desktop\apego-infancia-depresion-adulta-L-Jqi3rn.jpeg"/>
          <p:cNvPicPr/>
          <p:nvPr/>
        </p:nvPicPr>
        <p:blipFill>
          <a:blip r:embed="rId1"/>
          <a:stretch/>
        </p:blipFill>
        <p:spPr>
          <a:xfrm>
            <a:off x="2303640" y="3898800"/>
            <a:ext cx="3400200" cy="2676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TRASTORNOS DE LA CONDUCTA ALIMENTARIA</a:t>
            </a:r>
            <a:endParaRPr b="0" lang="en-US" sz="3000" spc="-1" strike="noStrike">
              <a:solidFill>
                <a:srgbClr val="575f6d"/>
              </a:solidFill>
              <a:latin typeface="Century Schoolbook"/>
            </a:endParaRPr>
          </a:p>
        </p:txBody>
      </p:sp>
      <p:sp>
        <p:nvSpPr>
          <p:cNvPr id="385"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Como la anorexia nerviosa o la bulimia que afectan principalmente a mujeres pero no es raro en hombres comienza en la adolescencia o juventud. Adelante hablaremos de ella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ANOREXIA NERVIOSA</a:t>
            </a:r>
            <a:endParaRPr b="0" lang="en-US" sz="3000" spc="-1" strike="noStrike">
              <a:solidFill>
                <a:srgbClr val="575f6d"/>
              </a:solidFill>
              <a:latin typeface="Century Schoolbook"/>
            </a:endParaRPr>
          </a:p>
        </p:txBody>
      </p:sp>
      <p:sp>
        <p:nvSpPr>
          <p:cNvPr id="387"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Schoolbook"/>
              </a:rPr>
              <a:t>No se conocen las causas exactas de la anorexia nerviosa. Muchos factores probablemente estén relacionados. Los genes y las hormonas pueden jugar un papel. Las actitudes sociales que promueven tipos de cuerpos muy delgados también pueden contribuir.</a:t>
            </a:r>
            <a:endParaRPr b="0" lang="en-US" sz="20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Schoolbook"/>
              </a:rPr>
              <a:t>La anorexia nerviosa se puede considerar como una alteración grave de los hábitos y/o comportamientos involucrados en la alimentación. Las personas que lo padecen dedican la mayor parte de su tiempo a temas alimentarios y todo lo que esté relacionado con ello. La preocupación por la comida y el temor a ganar peso forman lo esencial de este trastorno, junto con la inseguridad personal para enfrentarse a este problema. Niegan la enfermedad y se perciben gordas en alguna parte de su cuerpo a pesar de presentar un aspecto esquelético. Sobreviene la irregularidad menstrual y más tarde la amenorrea o la impotencia en varones.</a:t>
            </a: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TRATAMIENTO</a:t>
            </a:r>
            <a:endParaRPr b="0" lang="en-US" sz="3000" spc="-1" strike="noStrike">
              <a:solidFill>
                <a:srgbClr val="575f6d"/>
              </a:solidFill>
              <a:latin typeface="Century Schoolbook"/>
            </a:endParaRPr>
          </a:p>
        </p:txBody>
      </p:sp>
      <p:sp>
        <p:nvSpPr>
          <p:cNvPr id="389"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Schoolbook"/>
              </a:rPr>
              <a:t>Se han diseñado muchos programas diferentes para tratar la anorexia. Algunas veces, la persona puede aumentar de peso:</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Schoolbook"/>
              </a:rPr>
              <a:t>Incrementando la actividad social.</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Schoolbook"/>
              </a:rPr>
              <a:t>Disminuyendo la actividad física.</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Schoolbook"/>
              </a:rPr>
              <a:t>Usando horarios para comer.</a:t>
            </a: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Schoolbook"/>
              </a:rPr>
              <a:t>Los profesionales de la salud que por lo general están involucrados en estos programas incluyen:</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Schoolbook"/>
              </a:rPr>
              <a:t>Enfermeras profesionales</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Schoolbook"/>
              </a:rPr>
              <a:t>Médicos</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Schoolbook"/>
              </a:rPr>
              <a:t>Nutricionistas o dietistas</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Schoolbook"/>
              </a:rPr>
              <a:t>Profesionales en salud mental</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ÍNDICE</a:t>
            </a:r>
            <a:endParaRPr b="0" lang="en-US" sz="3000" spc="-1" strike="noStrike">
              <a:solidFill>
                <a:srgbClr val="575f6d"/>
              </a:solidFill>
              <a:latin typeface="Century Schoolbook"/>
            </a:endParaRPr>
          </a:p>
        </p:txBody>
      </p:sp>
      <p:sp>
        <p:nvSpPr>
          <p:cNvPr id="354"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Introducción</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Enfermedades a desarrollar, síntomas y gente. causal de la enfermedad.</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Tratamiento de la enfermedad y prevención.</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Conclusión.</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Bibliografía.</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 </a:t>
            </a:r>
            <a:r>
              <a:rPr b="0" lang="es-ES" sz="3000" spc="-1" strike="noStrike">
                <a:solidFill>
                  <a:srgbClr val="575f6d"/>
                </a:solidFill>
                <a:latin typeface="Century Schoolbook"/>
              </a:rPr>
              <a:t>OTROS TRATAMIENTOS</a:t>
            </a:r>
            <a:endParaRPr b="0" lang="en-US" sz="3000" spc="-1" strike="noStrike">
              <a:solidFill>
                <a:srgbClr val="575f6d"/>
              </a:solidFill>
              <a:latin typeface="Century Schoolbook"/>
            </a:endParaRPr>
          </a:p>
        </p:txBody>
      </p:sp>
      <p:sp>
        <p:nvSpPr>
          <p:cNvPr id="391"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diferentes tipos de psicoterapia</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Los medicamentos, como antidepresivos, antipsicóticos y estabilizadores del estado de ánimo</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392" name="Picture 2" descr="C:\Users\Usuario\Documents\no sé que es\Desktop\5598.jpg"/>
          <p:cNvPicPr/>
          <p:nvPr/>
        </p:nvPicPr>
        <p:blipFill>
          <a:blip r:embed="rId1"/>
          <a:stretch/>
        </p:blipFill>
        <p:spPr>
          <a:xfrm>
            <a:off x="271440" y="3832200"/>
            <a:ext cx="4000680" cy="1924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INTRODUCCIÓN</a:t>
            </a:r>
            <a:endParaRPr b="0" lang="en-US" sz="3000" spc="-1" strike="noStrike">
              <a:solidFill>
                <a:srgbClr val="575f6d"/>
              </a:solidFill>
              <a:latin typeface="Century Schoolbook"/>
            </a:endParaRPr>
          </a:p>
        </p:txBody>
      </p:sp>
      <p:sp>
        <p:nvSpPr>
          <p:cNvPr id="356" name=""/>
          <p:cNvSpPr txBox="1"/>
          <p:nvPr/>
        </p:nvSpPr>
        <p:spPr>
          <a:xfrm>
            <a:off x="456840" y="1600200"/>
            <a:ext cx="7467480" cy="4873680"/>
          </a:xfrm>
          <a:prstGeom prst="rect">
            <a:avLst/>
          </a:prstGeom>
          <a:noFill/>
          <a:ln w="0">
            <a:noFill/>
          </a:ln>
        </p:spPr>
        <p:txBody>
          <a:bodyPr lIns="90000" rIns="90000" tIns="46800" bIns="46800" anchor="t">
            <a:normAutofit fontScale="97000"/>
          </a:bodyPr>
          <a:p>
            <a:pPr marL="264600" indent="-2646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Las enfermedades mentales son aquellos cambios graves en el pensamiento(trastornos del cerebro), estado de ánimo o comportamiento.</a:t>
            </a:r>
            <a:endParaRPr b="0" lang="en-US" sz="2400" spc="-1" strike="noStrike">
              <a:solidFill>
                <a:srgbClr val="000000"/>
              </a:solidFill>
              <a:latin typeface="Century Schoolbook"/>
            </a:endParaRPr>
          </a:p>
          <a:p>
            <a:pPr marL="264600" indent="-2646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En este país, cinco millones de personas tienen una enfermedad mental. La buena noticia es que las enfermedades mentales son tratables. </a:t>
            </a:r>
            <a:endParaRPr b="0" lang="en-US" sz="2400" spc="-1" strike="noStrike">
              <a:solidFill>
                <a:srgbClr val="000000"/>
              </a:solidFill>
              <a:latin typeface="Century Schoolbook"/>
            </a:endParaRPr>
          </a:p>
          <a:p>
            <a:pPr marL="264600" indent="-2646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La mayoría de las personas que tienen una enfermedad mental necesitan medicamentos para ayudar a controlar los síntomas de la enfermedad. </a:t>
            </a:r>
            <a:endParaRPr b="0" lang="en-US" sz="2400" spc="-1" strike="noStrike">
              <a:solidFill>
                <a:srgbClr val="000000"/>
              </a:solidFill>
              <a:latin typeface="Century Schoolbook"/>
            </a:endParaRPr>
          </a:p>
          <a:p>
            <a:pPr marL="264600" indent="-2646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A continuación daremos información sobre distintas enfermedades mentales.</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ESQUIZOFRENIA</a:t>
            </a:r>
            <a:endParaRPr b="0" lang="en-US" sz="3000" spc="-1" strike="noStrike">
              <a:solidFill>
                <a:srgbClr val="575f6d"/>
              </a:solidFill>
              <a:latin typeface="Century Schoolbook"/>
            </a:endParaRPr>
          </a:p>
        </p:txBody>
      </p:sp>
      <p:sp>
        <p:nvSpPr>
          <p:cNvPr id="358"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La esquizofrenia es un conjunto de severos síntomas psicológicos los cuales hacen difícil el trabajar, jugar y estar con otras personas. Síntomas "positivos" incluyen ilusiones (creencias irracionales), alucinaciones (experiencias sensorias por falta de estímulo), pensamiento y habla incoherente, paranoia o ansiedad intensa e incontrolable y un comportamiento extraño. Entre los síntomas negativos están la pérdida de experiencias y expresiones emocionales, pérdida de poder e iniciativa, inhabilidad de experimentar placer o de interesarse en cosas, y aislamiento de personas. Se inicia entre los 15 y los 25 años.</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 </a:t>
            </a:r>
            <a:endParaRPr b="0" lang="en-US" sz="3000" spc="-1" strike="noStrike">
              <a:solidFill>
                <a:srgbClr val="575f6d"/>
              </a:solidFill>
              <a:latin typeface="Century Schoolbook"/>
            </a:endParaRPr>
          </a:p>
        </p:txBody>
      </p:sp>
      <p:pic>
        <p:nvPicPr>
          <p:cNvPr id="360" name="Picture 2" descr="C:\Users\Usuario\Documents\no sé que es\Desktop\esquizo-okey.jpg"/>
          <p:cNvPicPr/>
          <p:nvPr/>
        </p:nvPicPr>
        <p:blipFill>
          <a:blip r:embed="rId1"/>
          <a:stretch/>
        </p:blipFill>
        <p:spPr>
          <a:xfrm>
            <a:off x="1763640" y="1341360"/>
            <a:ext cx="5448240" cy="4086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TRATAMIENTO:</a:t>
            </a:r>
            <a:endParaRPr b="0" lang="en-US" sz="3000" spc="-1" strike="noStrike">
              <a:solidFill>
                <a:srgbClr val="575f6d"/>
              </a:solidFill>
              <a:latin typeface="Century Schoolbook"/>
            </a:endParaRPr>
          </a:p>
        </p:txBody>
      </p:sp>
      <p:sp>
        <p:nvSpPr>
          <p:cNvPr id="362"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La mayoría de las personas con esquizofrenia mejoran de manera significativa cuando son tratadas con medicamentos antisicóticos. Sin embargo, hay excepciones y los medicamentos no son efectivos para algunos pacientes. Por otro lado, algunos no necesitan ser medicados. Es difícil predecir qué paciente no va a responder a los medicamentos antisicóticos, afortunadamente la mayoría responden.</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Luego también están la psicoterapia individual(con un psicólogo), la educación familiar, los grupos de autoayuda y la rehabilitación (social).</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 </a:t>
            </a:r>
            <a:endParaRPr b="0" lang="en-US" sz="3000" spc="-1" strike="noStrike">
              <a:solidFill>
                <a:srgbClr val="575f6d"/>
              </a:solidFill>
              <a:latin typeface="Century Schoolbook"/>
            </a:endParaRPr>
          </a:p>
        </p:txBody>
      </p:sp>
      <p:sp>
        <p:nvSpPr>
          <p:cNvPr id="364"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entury Schoolbook"/>
              </a:rPr>
              <a:t>Prevención</a:t>
            </a:r>
            <a:r>
              <a:rPr b="0" lang="es-ES" sz="2400" spc="-1" strike="noStrike">
                <a:solidFill>
                  <a:srgbClr val="000000"/>
                </a:solidFill>
                <a:latin typeface="Century Schoolbook"/>
              </a:rPr>
              <a:t>: No existe ninguna forma conocida de </a:t>
            </a:r>
            <a:r>
              <a:rPr b="1" lang="es-ES" sz="2400" spc="-1" strike="noStrike">
                <a:solidFill>
                  <a:srgbClr val="000000"/>
                </a:solidFill>
                <a:latin typeface="Century Schoolbook"/>
              </a:rPr>
              <a:t>prevenir</a:t>
            </a:r>
            <a:r>
              <a:rPr b="0" lang="es-ES" sz="2400" spc="-1" strike="noStrike">
                <a:solidFill>
                  <a:srgbClr val="000000"/>
                </a:solidFill>
                <a:latin typeface="Century Schoolbook"/>
              </a:rPr>
              <a:t> la </a:t>
            </a:r>
            <a:r>
              <a:rPr b="1" lang="es-ES" sz="2400" spc="-1" strike="noStrike">
                <a:solidFill>
                  <a:srgbClr val="000000"/>
                </a:solidFill>
                <a:latin typeface="Century Schoolbook"/>
              </a:rPr>
              <a:t>esquizofrenia</a:t>
            </a:r>
            <a:r>
              <a:rPr b="0" lang="es-ES" sz="2400" spc="-1" strike="noStrike">
                <a:solidFill>
                  <a:srgbClr val="000000"/>
                </a:solidFill>
                <a:latin typeface="Century Schoolbook"/>
              </a:rPr>
              <a:t>. Los síntomas se pueden </a:t>
            </a:r>
            <a:r>
              <a:rPr b="1" lang="es-ES" sz="2400" spc="-1" strike="noStrike">
                <a:solidFill>
                  <a:srgbClr val="000000"/>
                </a:solidFill>
                <a:latin typeface="Century Schoolbook"/>
              </a:rPr>
              <a:t>prevenir</a:t>
            </a:r>
            <a:r>
              <a:rPr b="0" lang="es-ES" sz="2400" spc="-1" strike="noStrike">
                <a:solidFill>
                  <a:srgbClr val="000000"/>
                </a:solidFill>
                <a:latin typeface="Century Schoolbook"/>
              </a:rPr>
              <a:t> tomando medicamentos</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TRASTORNOS DE ANSIEDAD</a:t>
            </a:r>
            <a:endParaRPr b="0" lang="en-US" sz="3000" spc="-1" strike="noStrike">
              <a:solidFill>
                <a:srgbClr val="575f6d"/>
              </a:solidFill>
              <a:latin typeface="Century Schoolbook"/>
            </a:endParaRPr>
          </a:p>
        </p:txBody>
      </p:sp>
      <p:sp>
        <p:nvSpPr>
          <p:cNvPr id="366" name=""/>
          <p:cNvSpPr txBox="1"/>
          <p:nvPr/>
        </p:nvSpPr>
        <p:spPr>
          <a:xfrm>
            <a:off x="456840" y="1600200"/>
            <a:ext cx="7467480" cy="4873680"/>
          </a:xfrm>
          <a:prstGeom prst="rect">
            <a:avLst/>
          </a:prstGeom>
          <a:noFill/>
          <a:ln w="0">
            <a:noFill/>
          </a:ln>
        </p:spPr>
        <p:txBody>
          <a:bodyPr lIns="90000" rIns="90000" tIns="46800" bIns="46800" anchor="t">
            <a:normAutofit fontScale="94000"/>
          </a:bodyPr>
          <a:p>
            <a:pPr marL="256320" indent="-25632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Schoolbook"/>
              </a:rPr>
              <a:t>Los trastornos de ansiedad se caracterizan por tener a la ansiedad o el miedo como elementos principales del sufrimiento humano. Cada trastorno se refiere a un conjunto característico de </a:t>
            </a:r>
            <a:r>
              <a:rPr b="0" lang="es-ES" sz="2200" spc="-1" strike="noStrike" u="sng">
                <a:solidFill>
                  <a:srgbClr val="d2611c"/>
                </a:solidFill>
                <a:uFillTx/>
                <a:latin typeface="Century Schoolbook"/>
                <a:hlinkClick r:id="rId1"/>
              </a:rPr>
              <a:t>síntomas</a:t>
            </a:r>
            <a:r>
              <a:rPr b="0" lang="es-ES" sz="2200" spc="-1" strike="noStrike">
                <a:solidFill>
                  <a:srgbClr val="000000"/>
                </a:solidFill>
                <a:latin typeface="Century Schoolbook"/>
              </a:rPr>
              <a:t> y sensaciones que suelen aparecer en la misma persona.</a:t>
            </a:r>
            <a:br>
              <a:rPr sz="2200"/>
            </a:br>
            <a:br>
              <a:rPr sz="2200"/>
            </a:br>
            <a:r>
              <a:rPr b="0" lang="es-ES" sz="2200" spc="-1" strike="noStrike">
                <a:solidFill>
                  <a:srgbClr val="000000"/>
                </a:solidFill>
                <a:latin typeface="Century Schoolbook"/>
              </a:rPr>
              <a:t>Los principales trastornos de ansiedad son:</a:t>
            </a:r>
            <a:endParaRPr b="0" lang="en-US" sz="2200" spc="-1" strike="noStrike">
              <a:solidFill>
                <a:srgbClr val="000000"/>
              </a:solidFill>
              <a:latin typeface="Century Schoolbook"/>
            </a:endParaRPr>
          </a:p>
          <a:p>
            <a:pPr marL="256320" indent="-25632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d2611c"/>
                </a:solidFill>
                <a:uFillTx/>
                <a:latin typeface="Century Schoolbook"/>
                <a:hlinkClick r:id="rId2"/>
              </a:rPr>
              <a:t>agorafobia</a:t>
            </a:r>
            <a:r>
              <a:rPr b="0" lang="es-ES" sz="2200" spc="-1" strike="noStrike" u="sng">
                <a:solidFill>
                  <a:srgbClr val="d2611c"/>
                </a:solidFill>
                <a:uFillTx/>
                <a:latin typeface="Century Schoolbook"/>
                <a:hlinkClick r:id="rId3"/>
              </a:rPr>
              <a:t>fobia social</a:t>
            </a:r>
            <a:endParaRPr b="0" lang="en-US" sz="2200" spc="-1" strike="noStrike">
              <a:solidFill>
                <a:srgbClr val="000000"/>
              </a:solidFill>
              <a:latin typeface="Century Schoolbook"/>
            </a:endParaRPr>
          </a:p>
          <a:p>
            <a:pPr marL="256320" indent="-25632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d2611c"/>
                </a:solidFill>
                <a:uFillTx/>
                <a:latin typeface="Century Schoolbook"/>
                <a:hlinkClick r:id="rId4"/>
              </a:rPr>
              <a:t>fobias específicas</a:t>
            </a:r>
            <a:endParaRPr b="0" lang="en-US" sz="2200" spc="-1" strike="noStrike">
              <a:solidFill>
                <a:srgbClr val="000000"/>
              </a:solidFill>
              <a:latin typeface="Century Schoolbook"/>
            </a:endParaRPr>
          </a:p>
          <a:p>
            <a:pPr marL="256320" indent="-25632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d2611c"/>
                </a:solidFill>
                <a:uFillTx/>
                <a:latin typeface="Century Schoolbook"/>
                <a:hlinkClick r:id="rId5"/>
              </a:rPr>
              <a:t>trastorno </a:t>
            </a:r>
            <a:r>
              <a:rPr b="0" lang="es-ES" sz="2200" spc="-1" strike="noStrike" u="sng">
                <a:solidFill>
                  <a:srgbClr val="d2611c"/>
                </a:solidFill>
                <a:uFillTx/>
                <a:latin typeface="Century Schoolbook"/>
                <a:hlinkClick r:id="rId6"/>
              </a:rPr>
              <a:t>de </a:t>
            </a:r>
            <a:r>
              <a:rPr b="0" lang="es-ES" sz="2200" spc="-1" strike="noStrike" u="sng">
                <a:solidFill>
                  <a:srgbClr val="d2611c"/>
                </a:solidFill>
                <a:uFillTx/>
                <a:latin typeface="Century Schoolbook"/>
                <a:hlinkClick r:id="rId7"/>
              </a:rPr>
              <a:t>panico</a:t>
            </a:r>
            <a:endParaRPr b="0" lang="en-US" sz="2200" spc="-1" strike="noStrike">
              <a:solidFill>
                <a:srgbClr val="000000"/>
              </a:solidFill>
              <a:latin typeface="Century Schoolbook"/>
            </a:endParaRPr>
          </a:p>
          <a:p>
            <a:pPr marL="256320" indent="-25632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d2611c"/>
                </a:solidFill>
                <a:uFillTx/>
                <a:latin typeface="Century Schoolbook"/>
                <a:hlinkClick r:id="rId8"/>
              </a:rPr>
              <a:t>trastorno </a:t>
            </a:r>
            <a:r>
              <a:rPr b="0" lang="es-ES" sz="2200" spc="-1" strike="noStrike" u="sng">
                <a:solidFill>
                  <a:srgbClr val="d2611c"/>
                </a:solidFill>
                <a:uFillTx/>
                <a:latin typeface="Century Schoolbook"/>
                <a:hlinkClick r:id="rId9"/>
              </a:rPr>
              <a:t>por estres </a:t>
            </a:r>
            <a:r>
              <a:rPr b="0" lang="es-ES" sz="2200" spc="-1" strike="noStrike" u="sng">
                <a:solidFill>
                  <a:srgbClr val="d2611c"/>
                </a:solidFill>
                <a:uFillTx/>
                <a:latin typeface="Century Schoolbook"/>
                <a:hlinkClick r:id="rId10"/>
              </a:rPr>
              <a:t>agudo</a:t>
            </a:r>
            <a:endParaRPr b="0" lang="en-US" sz="2200" spc="-1" strike="noStrike">
              <a:solidFill>
                <a:srgbClr val="000000"/>
              </a:solidFill>
              <a:latin typeface="Century Schoolbook"/>
            </a:endParaRPr>
          </a:p>
          <a:p>
            <a:pPr marL="256320" indent="-25632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d2611c"/>
                </a:solidFill>
                <a:uFillTx/>
                <a:latin typeface="Century Schoolbook"/>
                <a:hlinkClick r:id="rId11"/>
              </a:rPr>
              <a:t>trastorno obsesivo-compulsivo</a:t>
            </a:r>
            <a:endParaRPr b="0" lang="en-US" sz="2200" spc="-1" strike="noStrike">
              <a:solidFill>
                <a:srgbClr val="000000"/>
              </a:solidFill>
              <a:latin typeface="Century Schoolbook"/>
            </a:endParaRPr>
          </a:p>
          <a:p>
            <a:pPr marL="256320" indent="-25632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d2611c"/>
                </a:solidFill>
                <a:uFillTx/>
                <a:latin typeface="Century Schoolbook"/>
                <a:hlinkClick r:id="rId12"/>
              </a:rPr>
              <a:t>trastorno </a:t>
            </a:r>
            <a:r>
              <a:rPr b="0" lang="es-ES" sz="2200" spc="-1" strike="noStrike" u="sng">
                <a:solidFill>
                  <a:srgbClr val="d2611c"/>
                </a:solidFill>
                <a:uFillTx/>
                <a:latin typeface="Century Schoolbook"/>
                <a:hlinkClick r:id="rId13"/>
              </a:rPr>
              <a:t>por estres </a:t>
            </a:r>
            <a:r>
              <a:rPr b="0" lang="es-ES" sz="2200" spc="-1" strike="noStrike" u="sng">
                <a:solidFill>
                  <a:srgbClr val="d2611c"/>
                </a:solidFill>
                <a:uFillTx/>
                <a:latin typeface="Century Schoolbook"/>
                <a:hlinkClick r:id="rId14"/>
              </a:rPr>
              <a:t>postraumático</a:t>
            </a:r>
            <a:endParaRPr b="0" lang="en-US" sz="2200" spc="-1" strike="noStrike">
              <a:solidFill>
                <a:srgbClr val="000000"/>
              </a:solidFill>
              <a:latin typeface="Century Schoolbook"/>
            </a:endParaRPr>
          </a:p>
          <a:p>
            <a:pPr marL="256320" indent="-25632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d2611c"/>
                </a:solidFill>
                <a:uFillTx/>
                <a:latin typeface="Century Schoolbook"/>
                <a:hlinkClick r:id="rId15"/>
              </a:rPr>
              <a:t>trastorno </a:t>
            </a:r>
            <a:r>
              <a:rPr b="1" lang="es-ES" sz="2200" spc="-1" strike="noStrike">
                <a:solidFill>
                  <a:srgbClr val="000000"/>
                </a:solidFill>
                <a:latin typeface="Century Schoolbook"/>
              </a:rPr>
              <a:t>de ansiedad generalizada</a:t>
            </a: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 </a:t>
            </a:r>
            <a:endParaRPr b="0" lang="en-US" sz="3000" spc="-1" strike="noStrike">
              <a:solidFill>
                <a:srgbClr val="575f6d"/>
              </a:solidFill>
              <a:latin typeface="Century Schoolbook"/>
            </a:endParaRPr>
          </a:p>
        </p:txBody>
      </p:sp>
      <p:sp>
        <p:nvSpPr>
          <p:cNvPr id="368"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En otros casos, las reacciones de ansiedad se deben a acontecimientos estresantes como por ejemplo una separación de pareja o un despido laboral, que crean una dificultad puntual para desarrollar nuestra vida cotidiana y que se denomina trastorno adaptativo, al no alcanzar la intensidad para ser un trastorno de ansiedad.</a:t>
            </a:r>
            <a:br>
              <a:rPr sz="2400"/>
            </a:br>
            <a:r>
              <a:rPr b="0" lang="es-ES" sz="2400" spc="-1" strike="noStrike">
                <a:solidFill>
                  <a:srgbClr val="000000"/>
                </a:solidFill>
                <a:latin typeface="Century Schoolbook"/>
              </a:rPr>
              <a:t>También puede ocurrir que los </a:t>
            </a:r>
            <a:r>
              <a:rPr b="1" lang="es-ES" sz="2400" spc="-1" strike="noStrike">
                <a:solidFill>
                  <a:srgbClr val="000000"/>
                </a:solidFill>
                <a:latin typeface="Century Schoolbook"/>
              </a:rPr>
              <a:t>síntomas de ansiedad</a:t>
            </a:r>
            <a:r>
              <a:rPr b="0" lang="es-ES" sz="2400" spc="-1" strike="noStrike">
                <a:solidFill>
                  <a:srgbClr val="000000"/>
                </a:solidFill>
                <a:latin typeface="Century Schoolbook"/>
              </a:rPr>
              <a:t> puedan estar provocados por enfermedades físicas o por el consumo de fármacos, drogas o sustancias dietéticas.</a:t>
            </a:r>
            <a:br>
              <a:rPr sz="2400"/>
            </a:br>
            <a:r>
              <a:rPr b="0" lang="es-ES" sz="2400" spc="-1" strike="noStrike">
                <a:solidFill>
                  <a:srgbClr val="000000"/>
                </a:solidFill>
                <a:latin typeface="Century Schoolbook"/>
              </a:rPr>
              <a:t>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2T15:13:11Z</dcterms:created>
  <dc:creator>Usuario</dc:creator>
  <dc:description/>
  <dc:language>en-US</dc:language>
  <cp:lastModifiedBy>Admin</cp:lastModifiedBy>
  <dcterms:modified xsi:type="dcterms:W3CDTF">2012-04-22T23:12:08Z</dcterms:modified>
  <cp:revision>10</cp:revision>
  <dc:subject/>
  <dc:title>Las enfermedades infecciosas</dc:title>
</cp:coreProperties>
</file>