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55C5A-242F-4015-B1E3-F9E10F4F4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6FD8-FF67-443B-99F2-7E1526C1F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B1A9A-E3BD-413D-812B-DA5422763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8C30-17D9-40F3-BCBD-8C8E1FF7B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6B40A-7F0F-432C-B2F8-4E223C44E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4F730-AF00-416E-862D-04B9343B8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42A8A-1EFF-4067-B2E0-A9D216F65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B392-5F69-43FB-8206-0C44BF29B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37F81-5052-4A62-9CC5-5641A023D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EF6D-1F47-4F0D-9914-20BA7F30D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642BB-AA87-47BE-B0D6-BD6C89A2E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888DC-E1C5-4FA1-A77A-346F79E4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A064E-F134-492A-95B8-5B9D0313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DB490-5A87-4D77-92D3-6347AFA3F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2A06E-4050-400C-8604-6CF0B2259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59014-985A-457C-957F-CE78340AA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1392F-0EEA-49A4-AB29-5010169FC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C533468-95A0-4C3A-ABA5-D64C0C19ED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347A57-B9B9-4EB9-BCD7-1DE652317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E722B4-88DB-4DB8-993B-E8D507F07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16FE33-3E6D-4130-8ABE-CC326D645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625C40-9DFA-4820-8D15-5414DA11D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19D10-5250-469B-9FA9-486448326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F4C950-D41B-4F70-A26D-46F5A3A70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C3537C-3B56-4CF5-A80C-6FBF09A0E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C359E3-D282-43C0-8BD3-75145B228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2363E5-CA20-4075-8A75-ACE602AA6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AD8EA6-2981-4350-BCA0-06076281E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34A821-9120-4EF4-BA01-3D73EE04DD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F213D6-046F-4241-98EE-B35A44B1B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CE69B-0962-4EB2-9D3D-E6927F696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B3EB21-BEB9-4A06-9B34-610031232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647D0-4F8A-40BD-9084-B8A9F229B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6124F-0CE5-454A-BFE0-2B2F7D3B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005CF-9573-4516-AE01-30B037FF2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42651-4D25-4DD6-8F89-F792FA5C4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AD1D1-0F58-449B-A5B3-3B9DC3B2F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6EB1E-2E5F-4FD1-B1A5-4CC0FF9B3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162B4-BE67-46F4-883D-9B1F1C54E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0552E-8BEB-4F1B-BD05-C35FA2207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863E2-EBAE-4290-995A-42DF16730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83807-8084-4829-9164-2AE72C092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0F5BB-C14A-468C-94C8-FDE576BFF1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7A7E5B-FCF2-4C67-8E60-A3F8DB2967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E918-3013-40C8-BF4B-D8CB6DFD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990DF9-7BDB-4F6C-9A97-6FBA343FE8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3DC3CA-64D1-4A95-A386-32B70F37C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2A9902-2F7C-4C27-8173-60F72DF54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0C676C-3230-4BA6-BDC8-8617E6AF2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C41CB7-6B0B-4E17-A3BC-D8E3D2D432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BC2B6B-B4AF-4D41-AD3C-11297699F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022ECE-9A18-4771-BD3B-1285AB60F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38DE7B-D4DD-4884-88A0-68F19ABDF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BF95A9-FC09-4DC5-A28A-361B1475C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6596DF3-EBB5-4352-83CE-41EAA0BE3D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271A-E5D6-46D8-B81B-967D2D01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CFABEC-57BC-4AF5-AEF6-4C1BEC9361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7F91BD4-1DBF-4C26-AF2A-AFF4566F5C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BB1C5A3-1005-4435-8BF4-F721836063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34FED2-78EC-4E5B-B05A-2C200E64E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9EB8199-A1F1-43AA-8879-FB7BE15EE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8A40669-16AE-461D-9C86-76BFBA2DB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451233-0D04-420B-BB9E-02E067768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6053E98-65C9-4183-BEFE-C0074678B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5AA713-F141-49A4-85FF-8F8DFF9F5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366E05-7C0C-4C72-B4FC-4914E25B09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82C3-631A-426F-8418-432D3EFC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511975-BE91-4C22-A1AA-2CCE315262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E1F303E-7980-4266-9033-8CD34301F8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E2E95FB-6A03-4896-8734-9ED23F6D1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A0A4633-CF1D-48B9-A1F9-7BF38B7F35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2E414E-8936-4123-937F-87C65E102E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A4EFBA-9DB2-4C2A-88D0-E85094549D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9AC9738-5B97-4445-A583-A3BC0896E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065769-B526-4ECD-8930-95918904EF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28C8971-849A-4612-9964-910CFD386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89FBF7-EBE1-404C-9D20-95047552E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0CD20-927F-4D44-9D2A-D0AB5331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24E9838-0535-43E7-AF0F-3EB988D6F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4B8F48-2174-4ADD-81D8-8F666DFF8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172ABD-38C8-4D9C-BAC9-B329685746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D5E808B-36DA-4400-83B4-F56470E1D9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2BA7B3-DA74-4E2E-8DB4-21559C95C7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D45D-084C-45F9-9EBA-9FA9556EC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620D-434C-45E3-95D0-AA1F375525E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7779-F516-436C-8B6A-DBDDDB7935F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982D-19FC-4AFB-8B1F-AEF58A860DC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AAA2-B23A-4325-8E18-61464294725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9590-9EA6-4523-BC7E-93EC14E7597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00DA-A941-4751-8A65-AF60B94FFF8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03EE-AEE3-48EB-8F30-B01B608E34F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tratamientoansiedad.com/sintomadeansiedad.html" TargetMode="External"/><Relationship Id="rId2" Type="http://schemas.openxmlformats.org/officeDocument/2006/relationships/hyperlink" Target="http://www.tratamientoansiedad.com/trastornos-de-ansiedad/agorafobia.html" TargetMode="External"/><Relationship Id="rId3" Type="http://schemas.openxmlformats.org/officeDocument/2006/relationships/hyperlink" Target="http://www.tratamientoansiedad.com/trastornos-de-ansiedad/fobia-social.html" TargetMode="External"/><Relationship Id="rId4" Type="http://schemas.openxmlformats.org/officeDocument/2006/relationships/hyperlink" Target="http://www.tratamientoansiedad.com/trastornos-de-ansiedad/fobias-especificas.html" TargetMode="External"/><Relationship Id="rId5" Type="http://schemas.openxmlformats.org/officeDocument/2006/relationships/hyperlink" Target="http://www.tratamientoansiedad.com/trastornos-de-ansiedad/trastorno-panico.html" TargetMode="External"/><Relationship Id="rId6" Type="http://schemas.openxmlformats.org/officeDocument/2006/relationships/hyperlink" Target="http://www.tratamientoansiedad.com/trastornos-de-ansiedad/trastorno-panico.html" TargetMode="External"/><Relationship Id="rId7" Type="http://schemas.openxmlformats.org/officeDocument/2006/relationships/hyperlink" Target="http://www.tratamientoansiedad.com/trastornos-de-ansiedad/trastorno-panico.html" TargetMode="External"/><Relationship Id="rId8" Type="http://schemas.openxmlformats.org/officeDocument/2006/relationships/hyperlink" Target="http://www.tratamientoansiedad.com/trastornos-de-ansiedad/estres-agudo.html" TargetMode="External"/><Relationship Id="rId9" Type="http://schemas.openxmlformats.org/officeDocument/2006/relationships/hyperlink" Target="http://www.tratamientoansiedad.com/trastornos-de-ansiedad/estres-agudo.html" TargetMode="External"/><Relationship Id="rId10" Type="http://schemas.openxmlformats.org/officeDocument/2006/relationships/hyperlink" Target="http://www.tratamientoansiedad.com/trastornos-de-ansiedad/estres-agudo.html" TargetMode="External"/><Relationship Id="rId11" Type="http://schemas.openxmlformats.org/officeDocument/2006/relationships/hyperlink" Target="http://www.tratamientoansiedad.com/trastornos-de-ansiedad/trastorno-obsesivo-compulsivo.html" TargetMode="External"/><Relationship Id="rId12" Type="http://schemas.openxmlformats.org/officeDocument/2006/relationships/hyperlink" Target="http://www.tratamientoansiedad.com/trastornos-de-ansiedad/estres-postraumatico.html" TargetMode="External"/><Relationship Id="rId13" Type="http://schemas.openxmlformats.org/officeDocument/2006/relationships/hyperlink" Target="http://www.tratamientoansiedad.com/trastornos-de-ansiedad/estres-postraumatico.html" TargetMode="External"/><Relationship Id="rId14" Type="http://schemas.openxmlformats.org/officeDocument/2006/relationships/hyperlink" Target="http://www.tratamientoansiedad.com/trastornos-de-ansiedad/estres-postraumatico.html" TargetMode="External"/><Relationship Id="rId15" Type="http://schemas.openxmlformats.org/officeDocument/2006/relationships/hyperlink" Target="http://www.tratamientoansiedad.com/trastornos-de-ansiedad/ansiedad-generalizada.html" TargetMode="External"/><Relationship Id="rId1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AS ENFERMEDADES MENTALE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70" name="Picture 2" descr="C:\Users\Usuario\Documents\no sé que es\Desktop\los-ataques-de-ansiedad-y-yo2b-8403538.jpg"/>
          <p:cNvPicPr/>
          <p:nvPr/>
        </p:nvPicPr>
        <p:blipFill>
          <a:blip r:embed="rId1"/>
          <a:stretch/>
        </p:blipFill>
        <p:spPr>
          <a:xfrm>
            <a:off x="611280" y="765000"/>
            <a:ext cx="70945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ármacos ansiolít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sicoterapia Cognitivo-Conduct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ducción de </a:t>
            </a:r>
            <a:r>
              <a:rPr b="1" lang="es-ES" sz="2400" spc="-1" strike="noStrike">
                <a:solidFill>
                  <a:srgbClr val="000000"/>
                </a:solidFill>
                <a:latin typeface="Century Schoolbook"/>
              </a:rPr>
              <a:t>estrés</a:t>
            </a:r>
            <a:r>
              <a:rPr b="0" lang="es-ES" sz="2400" spc="-1" strike="noStrike">
                <a:solidFill>
                  <a:srgbClr val="000000"/>
                </a:solidFill>
                <a:latin typeface="Century Schoolbook"/>
              </a:rPr>
              <a:t>, lo que puede incluir técnicas de relajación y respiración, mejor manejo del tiempo, ejercicio físico, yoga,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mbios en la alimentación; por ejemplo, eliminación </a:t>
            </a:r>
            <a:r>
              <a:rPr b="0" i="1" lang="es-ES" sz="2400" spc="-1" strike="noStrike">
                <a:solidFill>
                  <a:srgbClr val="000000"/>
                </a:solidFill>
                <a:latin typeface="Century Schoolbook"/>
              </a:rPr>
              <a:t>gradual</a:t>
            </a:r>
            <a:r>
              <a:rPr b="0" lang="es-ES" sz="2400" spc="-1" strike="noStrike">
                <a:solidFill>
                  <a:srgbClr val="000000"/>
                </a:solidFill>
                <a:latin typeface="Century Schoolbook"/>
              </a:rPr>
              <a:t> del café, estimulantes, chocolate, azúcar, tabaco, alcohol, refrescos que contengan cafeina y analgesicos o drogas que contengan esta. Algunos pacientes informan reducciones considerables en su </a:t>
            </a:r>
            <a:r>
              <a:rPr b="1" lang="es-ES" sz="2400" spc="-1" strike="noStrike">
                <a:solidFill>
                  <a:srgbClr val="000000"/>
                </a:solidFill>
                <a:latin typeface="Century Schoolbook"/>
              </a:rPr>
              <a:t>ansiedad</a:t>
            </a:r>
            <a:r>
              <a:rPr b="0" lang="es-ES" sz="2400" spc="-1" strike="noStrike">
                <a:solidFill>
                  <a:srgbClr val="000000"/>
                </a:solidFill>
                <a:latin typeface="Century Schoolbook"/>
              </a:rPr>
              <a:t>sólo tomando estas medid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REVENCIÓN</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dieta: alimentarse bien, que comer sea un momento de descanso y familiar, comer sano y no consumir alcohol.</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canso: dormir lo suficiente (8 horas), tomar vacaciones y fines de semana como ocio y descanso, fomentar las relaciones social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jercicio físico:La práctica moderada de algún deporte o ejercicio físico ayuda a relajarn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rganizació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organización del tiempo y de nuestras actividad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aber seleccionar actividades cuando no podemos hacer to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olución de problemas y toma de decisiones: No dejar pasar los problemas: afrontarlos de una manera más activa o más pasiva, pero decidiendo qué es lo mejor en cada caso.</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analizar continuamente el problema o las alternativas: esto produce ansied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i estamos nerviosos: entender que es natural, la ansiedad es tan natural como el miedo, la alegría o el enfado, y no preocuparnos aún más porque estamos activados o nervios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bueno querernos y tratarnos bi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Mejorar las relaciones con los demás (pareja, amigos, compañeros, famili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PRESIÓN</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Ocasionalmente, todos nos sentimos melancólicos o tristes, pero estos sentimientos, por lo general, son pasajeros y desaparecen en unos días. Cuando una persona tiene un trastorno depresivo, este interfiere con la vida diaria y el desempeño normal y causa dolor tanto para quien padece el trastorno como para quienes se preocupan por él o ella. La depresión es una enfermedad común pero grave y la mayor parte de quienes la padecen necesitan tratamiento para mejora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uchas personas con una enfermedad depresiva nunca buscan tratamiento. Pero la gran mayoría, incluso aquellas con los casos más graves de depresión, pueden mejorar con tratamiento. Intensivas investigaciones de la enfermedad han resultado en el desarrollo de medicamentos, psicoterapias, y otros métodos para tratar a las personas con este trastorno incapacit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entury Schoolbook"/>
              </a:rPr>
              <a:t>Síntoma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persistentes de tristeza, ansiedad, o vací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desesperanza y/o pesimism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culpa, inutilidad, y/o impotenci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rritabilidad, inquietu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érdida de interés en las actividades o pasatiempos que antes disfrutaba, incluso las relaciones sexual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Fatiga y falta de energí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ificultad para concentrarse, recordar detalles, y para tomar decision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nsomnio, despertar muy temprano, o dormir demasiad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Comer excesivamente o pérder el apeti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ensamientos suicidas o intentos de suicidi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olores y malestares persistentes, dolores de cabeza, cólicos, o problemas digestivos que no se alivian incluso con tratamien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Century Schoolbook"/>
              </a:rPr>
              <a:t>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xiste una causa única conocida de la depresión. Más bien, esta parece ser el resultado de una combinación de factores genéticos, bioquímicos, y psicológicos.</a:t>
            </a:r>
            <a:endParaRPr b="0" lang="en-US" sz="2400" spc="-1" strike="noStrike">
              <a:solidFill>
                <a:srgbClr val="000000"/>
              </a:solidFill>
              <a:latin typeface="Century Schoolbook"/>
            </a:endParaRPr>
          </a:p>
        </p:txBody>
      </p:sp>
      <p:pic>
        <p:nvPicPr>
          <p:cNvPr id="383" name="Picture 2" descr="C:\Users\Usuario\Documents\no sé que es\Desktop\apego-infancia-depresion-adulta-L-Jqi3rn.jpeg"/>
          <p:cNvPicPr/>
          <p:nvPr/>
        </p:nvPicPr>
        <p:blipFill>
          <a:blip r:embed="rId1"/>
          <a:stretch/>
        </p:blipFill>
        <p:spPr>
          <a:xfrm>
            <a:off x="2303640" y="3898800"/>
            <a:ext cx="3400200" cy="26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LA CONDUCTA ALIMENTARIA</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o la anorexia nerviosa o la bulimia que afectan principalmente a mujeres pero no es raro en hombres comienza en la adolescencia o juventud. Adelante hablaremos de ell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NOREXIA NERVIOS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No se conocen las causas exactas de la anorexia nerviosa. Muchos factores probablemente estén relacionados. Los genes y las hormonas pueden jugar un papel. Las actitudes sociales que promueven tipos de cuerpos muy delgados también pueden contribui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anorexia nerviosa se puede considerar como una alteración grave de los hábitos y/o comportamientos involucrados en la alimentación. Las personas que lo padecen dedican la mayor parte de su tiempo a temas alimentarios y todo lo que esté relacionado con ello. La preocupación por la comida y el temor a ganar peso forman lo esencial de este trastorno, junto con la inseguridad personal para enfrentarse a este problema. Niegan la enfermedad y se perciben gordas en alguna parte de su cuerpo a pesar de presentar un aspecto esquelético. Sobreviene la irregularidad menstrual y más tarde la amenorrea o la impotencia en varon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Se han diseñado muchos programas diferentes para tratar la anorexia. Algunas veces, la persona puede aumentar de pe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Incrementando la actividad soci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isminuyendo la actividad física.</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sando horarios para comer.</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profesionales de la salud que por lo general están involucrados en estos programas incluy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nfermeras profesional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Médic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utricionistas o dietista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Profesionales en salud ment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ÍNDIC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fermedades a desarrollar, síntomas y gente. causal de la enferme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ratamiento de la enfermedad y preven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lus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Bibliografí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r>
              <a:rPr b="0" lang="es-ES" sz="3000" spc="-1" strike="noStrike">
                <a:solidFill>
                  <a:srgbClr val="575f6d"/>
                </a:solidFill>
                <a:latin typeface="Century Schoolbook"/>
              </a:rPr>
              <a:t>OTROS TRATAMIENTO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tipos de psicoterap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edicamentos, como antidepresivos, antipsicóticos y estabilizadores del estado de ánim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2" name="Picture 2" descr="C:\Users\Usuario\Documents\no sé que es\Desktop\5598.jpg"/>
          <p:cNvPicPr/>
          <p:nvPr/>
        </p:nvPicPr>
        <p:blipFill>
          <a:blip r:embed="rId1"/>
          <a:stretch/>
        </p:blipFill>
        <p:spPr>
          <a:xfrm>
            <a:off x="271440" y="3832200"/>
            <a:ext cx="4000680" cy="19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INTRODUCCIÓ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enfermedades mentales son aquellos cambios graves en el pensamiento(trastornos del cerebro), estado de ánimo o comportamiento.</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país, cinco millones de personas tienen una enfermedad mental. La buena noticia es que las enfermedades mentales son tratables.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que tienen una enfermedad mental necesitan medicamentos para ayudar a controlar los síntomas de la enfermedad.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continuación daremos información sobre distintas enfermedades mental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SQUIZOFRENIA</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squizofrenia es un conjunto de severos síntomas psicológicos los cuales hacen difícil el trabajar, jugar y estar con otras personas. Síntomas "positivos" incluyen ilusiones (creencias irracionales), alucinaciones (experiencias sensorias por falta de estímulo), pensamiento y habla incoherente, paranoia o ansiedad intensa e incontrolable y un comportamiento extraño. Entre los síntomas negativos están la pérdida de experiencias y expresiones emocionales, pérdida de poder e iniciativa, inhabilidad de experimentar placer o de interesarse en cosas, y aislamiento de personas. Se inicia entre los 15 y los 25 añ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60" name="Picture 2" descr="C:\Users\Usuario\Documents\no sé que es\Desktop\esquizo-okey.jpg"/>
          <p:cNvPicPr/>
          <p:nvPr/>
        </p:nvPicPr>
        <p:blipFill>
          <a:blip r:embed="rId1"/>
          <a:stretch/>
        </p:blipFill>
        <p:spPr>
          <a:xfrm>
            <a:off x="1763640" y="1341360"/>
            <a:ext cx="5448240" cy="40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con esquizofrenia mejoran de manera significativa cuando son tratadas con medicamentos antisicóticos. Sin embargo, hay excepciones y los medicamentos no son efectivos para algunos pacientes. Por otro lado, algunos no necesitan ser medicados. Es difícil predecir qué paciente no va a responder a los medicamentos antisicóticos, afortunadamente la mayoría respond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uego también están la psicoterapia individual(con un psicólogo), la educación familiar, los grupos de autoayuda y la rehabilitación (so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Prevención</a:t>
            </a:r>
            <a:r>
              <a:rPr b="0" lang="es-ES" sz="2400" spc="-1" strike="noStrike">
                <a:solidFill>
                  <a:srgbClr val="000000"/>
                </a:solidFill>
                <a:latin typeface="Century Schoolbook"/>
              </a:rPr>
              <a:t>: No existe ninguna forma conocida de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la </a:t>
            </a:r>
            <a:r>
              <a:rPr b="1" lang="es-ES" sz="2400" spc="-1" strike="noStrike">
                <a:solidFill>
                  <a:srgbClr val="000000"/>
                </a:solidFill>
                <a:latin typeface="Century Schoolbook"/>
              </a:rPr>
              <a:t>esquizofrenia</a:t>
            </a:r>
            <a:r>
              <a:rPr b="0" lang="es-ES" sz="2400" spc="-1" strike="noStrike">
                <a:solidFill>
                  <a:srgbClr val="000000"/>
                </a:solidFill>
                <a:latin typeface="Century Schoolbook"/>
              </a:rPr>
              <a:t>. Los síntomas se pueden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tomando medicament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ANSIEDA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trastornos de ansiedad se caracterizan por tener a la ansiedad o el miedo como elementos principales del sufrimiento humano. Cada trastorno se refiere a un conjunto característico de </a:t>
            </a:r>
            <a:r>
              <a:rPr b="0" lang="es-ES" sz="2200" spc="-1" strike="noStrike" u="sng">
                <a:solidFill>
                  <a:srgbClr val="d2611c"/>
                </a:solidFill>
                <a:uFillTx/>
                <a:latin typeface="Century Schoolbook"/>
                <a:hlinkClick r:id="rId1"/>
              </a:rPr>
              <a:t>síntomas</a:t>
            </a:r>
            <a:r>
              <a:rPr b="0" lang="es-ES" sz="2200" spc="-1" strike="noStrike">
                <a:solidFill>
                  <a:srgbClr val="000000"/>
                </a:solidFill>
                <a:latin typeface="Century Schoolbook"/>
              </a:rPr>
              <a:t> y sensaciones que suelen aparecer en la misma persona.</a:t>
            </a:r>
            <a:br>
              <a:rPr sz="2200"/>
            </a:br>
            <a:br>
              <a:rPr sz="2200"/>
            </a:br>
            <a:r>
              <a:rPr b="0" lang="es-ES" sz="2200" spc="-1" strike="noStrike">
                <a:solidFill>
                  <a:srgbClr val="000000"/>
                </a:solidFill>
                <a:latin typeface="Century Schoolbook"/>
              </a:rPr>
              <a:t>Los principales trastornos de ansiedad son:</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2"/>
              </a:rPr>
              <a:t>agorafobia</a:t>
            </a:r>
            <a:r>
              <a:rPr b="0" lang="es-ES" sz="2200" spc="-1" strike="noStrike" u="sng">
                <a:solidFill>
                  <a:srgbClr val="d2611c"/>
                </a:solidFill>
                <a:uFillTx/>
                <a:latin typeface="Century Schoolbook"/>
                <a:hlinkClick r:id="rId3"/>
              </a:rPr>
              <a:t>fobia social</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4"/>
              </a:rPr>
              <a:t>fobias específicas</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5"/>
              </a:rPr>
              <a:t>trastorno </a:t>
            </a:r>
            <a:r>
              <a:rPr b="0" lang="es-ES" sz="2200" spc="-1" strike="noStrike" u="sng">
                <a:solidFill>
                  <a:srgbClr val="d2611c"/>
                </a:solidFill>
                <a:uFillTx/>
                <a:latin typeface="Century Schoolbook"/>
                <a:hlinkClick r:id="rId6"/>
              </a:rPr>
              <a:t>de </a:t>
            </a:r>
            <a:r>
              <a:rPr b="0" lang="es-ES" sz="2200" spc="-1" strike="noStrike" u="sng">
                <a:solidFill>
                  <a:srgbClr val="d2611c"/>
                </a:solidFill>
                <a:uFillTx/>
                <a:latin typeface="Century Schoolbook"/>
                <a:hlinkClick r:id="rId7"/>
              </a:rPr>
              <a:t>pan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8"/>
              </a:rPr>
              <a:t>trastorno </a:t>
            </a:r>
            <a:r>
              <a:rPr b="0" lang="es-ES" sz="2200" spc="-1" strike="noStrike" u="sng">
                <a:solidFill>
                  <a:srgbClr val="d2611c"/>
                </a:solidFill>
                <a:uFillTx/>
                <a:latin typeface="Century Schoolbook"/>
                <a:hlinkClick r:id="rId9"/>
              </a:rPr>
              <a:t>por estres </a:t>
            </a:r>
            <a:r>
              <a:rPr b="0" lang="es-ES" sz="2200" spc="-1" strike="noStrike" u="sng">
                <a:solidFill>
                  <a:srgbClr val="d2611c"/>
                </a:solidFill>
                <a:uFillTx/>
                <a:latin typeface="Century Schoolbook"/>
                <a:hlinkClick r:id="rId10"/>
              </a:rPr>
              <a:t>agud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1"/>
              </a:rPr>
              <a:t>trastorno obsesivo-compulsiv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2"/>
              </a:rPr>
              <a:t>trastorno </a:t>
            </a:r>
            <a:r>
              <a:rPr b="0" lang="es-ES" sz="2200" spc="-1" strike="noStrike" u="sng">
                <a:solidFill>
                  <a:srgbClr val="d2611c"/>
                </a:solidFill>
                <a:uFillTx/>
                <a:latin typeface="Century Schoolbook"/>
                <a:hlinkClick r:id="rId13"/>
              </a:rPr>
              <a:t>por estres </a:t>
            </a:r>
            <a:r>
              <a:rPr b="0" lang="es-ES" sz="2200" spc="-1" strike="noStrike" u="sng">
                <a:solidFill>
                  <a:srgbClr val="d2611c"/>
                </a:solidFill>
                <a:uFillTx/>
                <a:latin typeface="Century Schoolbook"/>
                <a:hlinkClick r:id="rId14"/>
              </a:rPr>
              <a:t>postraumát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5"/>
              </a:rPr>
              <a:t>trastorno </a:t>
            </a:r>
            <a:r>
              <a:rPr b="1" lang="es-ES" sz="2200" spc="-1" strike="noStrike">
                <a:solidFill>
                  <a:srgbClr val="000000"/>
                </a:solidFill>
                <a:latin typeface="Century Schoolbook"/>
              </a:rPr>
              <a:t>de ansiedad generalizada</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otros casos, las reacciones de ansiedad se deben a acontecimientos estresantes como por ejemplo una separación de pareja o un despido laboral, que crean una dificultad puntual para desarrollar nuestra vida cotidiana y que se denomina trastorno adaptativo, al no alcanzar la intensidad para ser un trastorno de ansiedad.</a:t>
            </a:r>
            <a:br>
              <a:rPr sz="2400"/>
            </a:br>
            <a:r>
              <a:rPr b="0" lang="es-ES" sz="2400" spc="-1" strike="noStrike">
                <a:solidFill>
                  <a:srgbClr val="000000"/>
                </a:solidFill>
                <a:latin typeface="Century Schoolbook"/>
              </a:rPr>
              <a:t>También puede ocurrir que los </a:t>
            </a:r>
            <a:r>
              <a:rPr b="1" lang="es-ES" sz="2400" spc="-1" strike="noStrike">
                <a:solidFill>
                  <a:srgbClr val="000000"/>
                </a:solidFill>
                <a:latin typeface="Century Schoolbook"/>
              </a:rPr>
              <a:t>síntomas de ansiedad</a:t>
            </a:r>
            <a:r>
              <a:rPr b="0" lang="es-ES" sz="2400" spc="-1" strike="noStrike">
                <a:solidFill>
                  <a:srgbClr val="000000"/>
                </a:solidFill>
                <a:latin typeface="Century Schoolbook"/>
              </a:rPr>
              <a:t> puedan estar provocados por enfermedades físicas o por el consumo de fármacos, drogas o sustancias dietéticas.</a:t>
            </a:r>
            <a:br>
              <a:rPr sz="2400"/>
            </a:b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5:13:11Z</dcterms:created>
  <dc:creator>Usuario</dc:creator>
  <dc:description/>
  <dc:language>en-US</dc:language>
  <cp:lastModifiedBy>Admin</cp:lastModifiedBy>
  <dcterms:modified xsi:type="dcterms:W3CDTF">2012-04-22T23:12:08Z</dcterms:modified>
  <cp:revision>10</cp:revision>
  <dc:subject/>
  <dc:title>Las enfermedades infecciosas</dc:title>
</cp:coreProperties>
</file>